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D1F-8093-4D82-B2CF-2FC245EE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92D-3AE5-41CA-827D-B5F88E2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559-2E86-429E-BA02-F44DA6F21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B2EB-9B3E-455C-8E55-4E92334D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CD35-F1DF-496A-A185-C1AF7BEC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F92E-47A8-448D-9C8D-FA3B531C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A736-F045-4420-989E-9AEE8194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93BC-4E1B-40B4-8D18-25BE9BF4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715E-82C8-4BF9-A17E-822BD71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DBA5-5D67-4A81-8A1A-1C93103B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328-45A5-40FA-A359-577B5C89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A50-4A76-4F92-8EC6-CD09D1B7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5CA7-092D-4171-99E8-CB3CB286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5F19-44B4-45F0-B5E7-87693CA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9524-DE70-4451-B516-4EF85E91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E06D-9F7F-488A-8779-5993F8C7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D5BE-75B4-4BDC-AEF1-EE21E404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36D-73D3-4A07-9653-D1C7121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2066-4D9A-48AF-A0D2-0F0C58BA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E2F-DFD8-4E6A-B8D2-23C68DA8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620-0ABD-496B-B5F8-D5FEC8B0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78C-FD28-423F-86D4-F77CA95E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E37-D9AC-4F05-8A4D-A60D6D7E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26FA-AACD-4548-9C02-879882A5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4AE3-2DFD-4F60-B938-0DCBFDD07E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06E5-C4D7-4E9B-91E6-AD9F365251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a-Pacific Symposium on Entrepreneurship and Innovation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ational Innovation System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ustralia Keeps Failing the Innov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Ron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Centre for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passive, market-failure and supply-side view of policy roles – the economic hierarchy thinks equilibrium, not dynamis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over-reliance on capability development through investment in public sector R&amp;D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narrow focus in public sector policy on science and innovation in one or two portfolio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underestimation of the implications for capabilities and policy of the rising importance of innovation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underinvestment in the knowledge to inform policy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misplaced confidence in the existing institutions to coordinate capabil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profound stance of risk aversion in government bureaucra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to From He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ep the pressure on to reform the architecture of the Australian innov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lore the opportunities for maximising the contribution of Enterprise Connect to innovation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ild linkages between the universities, research organisation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iden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storical track record – Stump-jump plough, Victa lawnmower, Hills Hoi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urrent track record – Cochlear, Resmed, Bishop Engineering, CSL, Barry Marshall, Ian Fraz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, name Australia’s leading systematically innovative industrial s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Ev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ities have to strive; Sydn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lobal cit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er NSW Min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ugh about technology-based competitiveness: we’ve got the mineral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nior Treasury 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novation mattered so much, where is your constituency?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ISR 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en More Ev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04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6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21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utler Starting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tecture of Australia’s innovation system is a generation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innovation is changing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Government investment in research and innovation declined by 25% as a % of GDP from 1994 t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growth has declined from twice the OECD average in the mid-1990s to half of it in the mid-20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tler’s Central Fi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ply-driven model of innovation has limi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ffective innovation occurs in the context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is everyone’s business, and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should be leaders and supporters of innovation, not its primary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kely Outcom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ransformation of the architecture of Australia’s innov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one important component (research funding) but probably our greatest strength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onnect to carry the major burden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izing of the time for renewal to prepare for the next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4:16:01Z</dcterms:created>
  <dc:creator> </dc:creator>
  <dc:description/>
  <dc:language>en-US</dc:language>
  <cp:lastModifiedBy>Engineering</cp:lastModifiedBy>
  <dcterms:modified xsi:type="dcterms:W3CDTF">2009-04-07T00:18:35Z</dcterms:modified>
  <cp:revision>14</cp:revision>
  <dc:subject/>
  <dc:title>Asia-Pacific Symposium on Entrepreneurship and Innovation: National Innovation System Perspectives</dc:title>
</cp:coreProperties>
</file>