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CC9-BADC-430C-9571-AD279EB3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568C-18B0-441E-AE17-0ECAD80BC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353C-056E-41CB-AA68-45273E1D6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4DB7-EBF6-4978-B5C3-7E92B07A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3CABD-87C5-4DD7-BF91-C04BF527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F941-0FAE-4E47-8011-8DD2C438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CAB7-C8B2-451F-81CF-4C71A921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8B9E-7755-4874-AAAD-E77A7FAA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1D1D-0A4A-467E-870E-E85B81F1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82AE-3199-401D-9FE4-7A793972B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8FBC-609D-4A62-9CCB-840E2D33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D1D8-1E9A-4B25-98C8-793CD2B7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7D29-1B85-4E16-912D-4C51198C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A245-8685-486B-934F-07EF34D7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90F4-931F-4A98-A36B-D97DC54A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E419-BFE6-4722-A9B5-8D241DDD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6147-C5D4-4A5F-BBDC-424B7FB2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A83-6891-48ED-A694-C1DD42E2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6C06-1988-4FDD-BCB3-9E619642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737A-6D9E-4433-8A81-DDB556A1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A3CA-9C8B-4A8E-AB86-9B47F87A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4BC-7FD8-45CE-87A9-45B77A05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CF16-72D6-4731-B331-502C1277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B812-9BED-4B33-A59F-572C6F50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86CE-F5FE-47A0-A2DE-490A50755A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6E68-7EB0-4B91-A8EC-5DFCDF5A3F9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31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ia-Pacific Symposium on Entrepreneurship and Innovation: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National Innovation System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ustralia Keeps Failing the Innovation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or Ron John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n Centre for Inno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6756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passive, market-failure and supply-side view of policy roles – the economic hierarchy thinks equilibrium, not dynamis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굴림"/>
              </a:rPr>
              <a:t>an over-reliance on capability development through investment in public sector R&amp;D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굴림"/>
              </a:rPr>
              <a:t>a narrow focus in public sector policy on science and innovation in one or two portfolios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굴림"/>
              </a:rPr>
              <a:t>an underestimation of the implications for capabilities and policy of the rising importance of innovation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굴림"/>
              </a:rPr>
              <a:t>an underinvestment in the knowledge to inform policy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굴림"/>
              </a:rPr>
              <a:t>a misplaced confidence in the existing institutions to coordinate capability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굴림"/>
              </a:rPr>
              <a:t>a profound stance of risk aversion in government bureaucra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ere to From Her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Keep the pressure on to reform the architecture of the Australian innov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plore the opportunities for maximising the contribution of Enterprise Connect to innovation in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uild linkages between the universities, research organisations and 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viden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6868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istorical track record – Stump-jump plough, Victa lawnmower, Hills Hois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urrent track record – Cochlear, Resmed, Bishop Engineering, CSL, Barry Marshall, Ian Fraz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o, name Australia’s leading systematically innovative industrial se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re Evid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ities have to strive; Sydne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global city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rmer NSW Mini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ough about technology-based competitiveness: we’ve got the minerals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nior Treasury offi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nnovation mattered so much, where is your constituency?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ISR offic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ven More Eviden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1600200"/>
            <a:ext cx="770436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60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58920" y="476280"/>
            <a:ext cx="684216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60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e Cutler Starting Point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rchitecture of Australia’s innovation system is a generation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ure of innovation is changing f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tralian Government investment in research and innovation declined by 25% as a % of GDP from 1994 to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vity growth has declined from twice the OECD average in the mid-1990s to half of it in the mid-200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utler’s Central Finding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pply-driven model of innovation has limited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effective innovation occurs in the context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 is everyone’s business, and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s should be leaders and supporters of innovation, not its primary bloc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ikely Outcome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ransformation of the architecture of Australia’s innov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ing one important component (research funding) but probably our greatest strength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erprise Connect to carry the major burden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izing of the time for renewal to prepare for the next business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04:16:01Z</dcterms:created>
  <dc:creator> </dc:creator>
  <dc:description/>
  <dc:language>en-US</dc:language>
  <cp:lastModifiedBy>Engineering</cp:lastModifiedBy>
  <dcterms:modified xsi:type="dcterms:W3CDTF">2009-04-07T00:18:35Z</dcterms:modified>
  <cp:revision>14</cp:revision>
  <dc:subject/>
  <dc:title>Asia-Pacific Symposium on Entrepreneurship and Innovation: National Innovation System Perspectives</dc:title>
</cp:coreProperties>
</file>