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E91A8-CC60-4001-A2BB-8215E63773D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ogy Roadmapping is a planning process that gives decision makers a means to identify, evaluate and select among strategic alternatives for achieving energy requirements for APEC cou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EC countries have differing levels of economic development; differing indigenous energy sources; and differing technology priorities for addressing energy secu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chnology Roadmapping exercise, starting in Vancouver, will examine the energy needs of participating APEC countries, and their priorities in terms of energy technologi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ess developed technologies, the roadmap may chart a pathway for those technological improvements to address country demands; for more developed technologies, the issues addressed may be skills requirements; infrastructure needs; or standards/regulations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echnology Foresighting is an excellent way to stimulate thinking, technology roadmapping provides a framework and a timeline for making that future happen technologicall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help of professional facilitators, workshop participants will be actively involved in the development of technology roadmaps focused on three rapidly emerging technologies for fuel- hydrogen, unconventional hyrdrocarbons, and biofu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M process consists of three step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ket Requirements (demand side) forecast for industry products (5-10 yea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s- determine the implications of the market requirements on the industry products (supply 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ologies- the key/critical technologies which will be required to develop, manufacture and support those products which will satisfy the market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Ms are not meant to be an extrapolation of existing product and manufacturing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ding principle is that the process and results be driven by marketplace needs in the time period spec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admap should identify the critical enabling technologies to achieve the desired product needs and the gaps that need to be filled by R&amp;D as well as infrastructure and human resource n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cecec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7E67-4ACE-4022-82BE-EABA13AD3EE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cecec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cecec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cecece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1000" y="4028400"/>
            <a:ext cx="809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10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882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6002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1000" y="40284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40284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13720" y="40284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55320"/>
            <a:ext cx="80773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410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882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1000" y="4028400"/>
            <a:ext cx="809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1000" y="4028400"/>
            <a:ext cx="809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410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882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77360" y="16002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3720" y="16002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1000" y="40284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77360" y="40284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3720" y="4028400"/>
            <a:ext cx="260568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355320"/>
            <a:ext cx="80773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10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88200" y="40284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88200" y="1600200"/>
            <a:ext cx="39492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1000" y="4028400"/>
            <a:ext cx="80931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398"/>
              </a:lnSpc>
              <a:spcBef>
                <a:spcPts val="601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398"/>
              </a:lnSpc>
              <a:spcBef>
                <a:spcPts val="601"/>
              </a:spcBef>
              <a:buClr>
                <a:srgbClr val="66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398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33080" y="631296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99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90000"/>
                </a:solidFill>
                <a:latin typeface="Arial"/>
                <a:ea typeface="Arial"/>
              </a:rPr>
              <a:t>&lt;footer&gt;</a:t>
            </a:r>
            <a:r>
              <a:rPr b="0" lang="de-AT" sz="1200" spc="-1" strike="noStrike">
                <a:solidFill>
                  <a:srgbClr val="990000"/>
                </a:solidFill>
                <a:latin typeface="Arial"/>
                <a:ea typeface="Arial"/>
              </a:rPr>
              <a:t>©</a:t>
            </a:r>
            <a:r>
              <a:rPr b="0" lang="de-DE" sz="1200" spc="-1" strike="noStrike">
                <a:solidFill>
                  <a:srgbClr val="990000"/>
                </a:solidFill>
                <a:latin typeface="Arial"/>
              </a:rPr>
              <a:t> systems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308640"/>
            <a:ext cx="8001000" cy="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1478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259092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7560" y="2629080"/>
            <a:ext cx="8025120" cy="215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lnSpc>
                <a:spcPts val="19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6666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orlearn.jrc.ec.europa.eu/guide/4_methodology/meth_quanti-quali.htm" TargetMode="External"/><Relationship Id="rId2" Type="http://schemas.openxmlformats.org/officeDocument/2006/relationships/hyperlink" Target="http://forlearn.jrc.ec.europa.eu/guide/4_methodology/meth_explo-norma.htm" TargetMode="External"/><Relationship Id="rId3" Type="http://schemas.openxmlformats.org/officeDocument/2006/relationships/hyperlink" Target="http://forlearn.jrc.ec.europa.eu/guide/4_methodology/meth_quanti-quali.htm" TargetMode="External"/><Relationship Id="rId4" Type="http://schemas.openxmlformats.org/officeDocument/2006/relationships/hyperlink" Target="http://forlearn.jrc.ec.europa.eu/guide/4_methodology/meth_explo-norma.htm" TargetMode="External"/><Relationship Id="rId5" Type="http://schemas.openxmlformats.org/officeDocument/2006/relationships/hyperlink" Target="http://forlearn.jrc.ec.europa.eu/guide/4_methodology/meth_predic-open.htm" TargetMode="External"/><Relationship Id="rId6" Type="http://schemas.openxmlformats.org/officeDocument/2006/relationships/hyperlink" Target="http://forlearn.jrc.ec.europa.eu/guide/4_methodology/meth_environmental-scanning.htm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14784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Role for Science &amp; Technology Foresight in CTBT-IS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3933360"/>
            <a:ext cx="74674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990000"/>
                </a:solidFill>
                <a:latin typeface="Arial"/>
              </a:rPr>
              <a:t>Exploring the next generation verification system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8880" y="4724280"/>
            <a:ext cx="5019840" cy="10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Matthias Weber and Ron Johns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ARC systems research &amp; Australian Centre for Inno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398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Arial"/>
              </a:rPr>
              <a:t>Vienna, 17 September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96960" y="5910120"/>
          <a:ext cx="1895400" cy="5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6960" y="5910120"/>
                    <a:ext cx="189540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24360" y="5869080"/>
            <a:ext cx="100836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775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990000"/>
                </a:solidFill>
                <a:latin typeface="Arial"/>
              </a:rPr>
              <a:t>Application of the foresight methodology</a:t>
            </a:r>
            <a:r>
              <a:rPr b="0" lang="de-AT" sz="3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ing a transparent structured decision-mak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ing a forward-looking attitude – anticipative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oking a creative and motivating decision mak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ating a participa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ing mutual learning and strategic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ing consensus around shared 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ing technology and innovation to wider socio-economic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ving the way for coordinated/coheren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78680" y="617220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66"/>
                </a:solidFill>
                <a:latin typeface="Arial"/>
                <a:ea typeface="Times New Roman"/>
              </a:rPr>
              <a:t>Source: Keenan/PR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TR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is a process tool to help identify the key scientific and technological development that an industry/sector/company/organisation needs to succeed in the future, and the projects/steps required to make these scientific and technological developments available for implementing solu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TRM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are developed by a group of collaborators who are knowledgeable about an industry/sector/research field and its relevant scientific and technological develop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STRM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can be supported by a range of information gathering (e.g. S&amp;T Monitoring, bibliometric analysis, data mining) and intelligence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960" y="433440"/>
            <a:ext cx="782640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990000"/>
                </a:solidFill>
                <a:latin typeface="Arial"/>
              </a:rPr>
              <a:t>S&amp;T</a:t>
            </a: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 Roadmapping (STRM) as an option for CTBT-ISS?</a:t>
            </a:r>
            <a:br>
              <a:rPr sz="21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 flipH="1" flipV="1">
            <a:off x="1219320" y="5152680"/>
            <a:ext cx="144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282920" y="484812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82920" y="418608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059280" y="5881680"/>
            <a:ext cx="92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4336920"/>
            <a:ext cx="1333440" cy="63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iers Manufactur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1484280"/>
            <a:ext cx="61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68840" y="1484280"/>
            <a:ext cx="1198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HAT/H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0080" y="1484280"/>
            <a:ext cx="595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2819520" y="2243160"/>
            <a:ext cx="3415680" cy="1517760"/>
            <a:chOff x="2819520" y="2243160"/>
            <a:chExt cx="3415680" cy="1517760"/>
          </a:xfrm>
        </p:grpSpPr>
        <p:sp>
          <p:nvSpPr>
            <p:cNvPr id="184" name=""/>
            <p:cNvSpPr/>
            <p:nvPr/>
          </p:nvSpPr>
          <p:spPr>
            <a:xfrm>
              <a:off x="2874960" y="2300400"/>
              <a:ext cx="3360240" cy="1460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520" y="2243160"/>
              <a:ext cx="3346200" cy="1446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944800" y="2668680"/>
            <a:ext cx="789120" cy="8697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2668680"/>
            <a:ext cx="790560" cy="8697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7960" y="2666880"/>
            <a:ext cx="792000" cy="79560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92560" y="4118040"/>
            <a:ext cx="2743200" cy="792000"/>
            <a:chOff x="3292560" y="4118040"/>
            <a:chExt cx="2743200" cy="792000"/>
          </a:xfrm>
        </p:grpSpPr>
        <p:sp>
          <p:nvSpPr>
            <p:cNvPr id="190" name=""/>
            <p:cNvSpPr/>
            <p:nvPr/>
          </p:nvSpPr>
          <p:spPr>
            <a:xfrm>
              <a:off x="3343320" y="4170600"/>
              <a:ext cx="2692440" cy="7394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92560" y="4118040"/>
              <a:ext cx="2676600" cy="72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305160" y="5595840"/>
            <a:ext cx="2654280" cy="666720"/>
            <a:chOff x="3305160" y="5595840"/>
            <a:chExt cx="2654280" cy="666720"/>
          </a:xfrm>
        </p:grpSpPr>
        <p:sp>
          <p:nvSpPr>
            <p:cNvPr id="193" name=""/>
            <p:cNvSpPr/>
            <p:nvPr/>
          </p:nvSpPr>
          <p:spPr>
            <a:xfrm>
              <a:off x="3369960" y="5648040"/>
              <a:ext cx="2589480" cy="6145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05160" y="5595840"/>
              <a:ext cx="2570040" cy="596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976560" y="1862280"/>
            <a:ext cx="717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052880" y="3800520"/>
            <a:ext cx="760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76920" y="5172120"/>
            <a:ext cx="80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ase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762360" y="3086280"/>
            <a:ext cx="284040" cy="71280"/>
            <a:chOff x="3762360" y="3086280"/>
            <a:chExt cx="284040" cy="71280"/>
          </a:xfrm>
        </p:grpSpPr>
        <p:sp>
          <p:nvSpPr>
            <p:cNvPr id="199" name=""/>
            <p:cNvSpPr/>
            <p:nvPr/>
          </p:nvSpPr>
          <p:spPr>
            <a:xfrm>
              <a:off x="3762360" y="3129120"/>
              <a:ext cx="20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03480" y="3086280"/>
              <a:ext cx="142920" cy="7128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89" y="23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89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84840" y="3086280"/>
            <a:ext cx="282600" cy="71280"/>
            <a:chOff x="4884840" y="3086280"/>
            <a:chExt cx="282600" cy="71280"/>
          </a:xfrm>
        </p:grpSpPr>
        <p:sp>
          <p:nvSpPr>
            <p:cNvPr id="202" name=""/>
            <p:cNvSpPr/>
            <p:nvPr/>
          </p:nvSpPr>
          <p:spPr>
            <a:xfrm>
              <a:off x="4884840" y="3129120"/>
              <a:ext cx="204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24520" y="3086280"/>
              <a:ext cx="142920" cy="7128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89" y="23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89" y="2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7010280" y="2181240"/>
            <a:ext cx="1752840" cy="4024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10280" y="2166840"/>
            <a:ext cx="1828800" cy="41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d market dem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d critical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ed R&amp;D 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d market and investment r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d competit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ce on government  policy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ams and regu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roved knowl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vity 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ed human resource and skills g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42760" y="1819440"/>
            <a:ext cx="1656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cipated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200" y="1819440"/>
            <a:ext cx="1760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ustry -led Initi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5554800" y="1957320"/>
            <a:ext cx="0" cy="84240"/>
            <a:chOff x="5554800" y="1957320"/>
            <a:chExt cx="0" cy="84240"/>
          </a:xfrm>
        </p:grpSpPr>
        <p:sp>
          <p:nvSpPr>
            <p:cNvPr id="209" name=""/>
            <p:cNvSpPr/>
            <p:nvPr/>
          </p:nvSpPr>
          <p:spPr>
            <a:xfrm>
              <a:off x="5554800" y="195732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54800" y="2033640"/>
              <a:ext cx="0" cy="7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265560" y="2490840"/>
            <a:ext cx="77760" cy="133200"/>
            <a:chOff x="3265560" y="2490840"/>
            <a:chExt cx="77760" cy="133200"/>
          </a:xfrm>
        </p:grpSpPr>
        <p:sp>
          <p:nvSpPr>
            <p:cNvPr id="212" name=""/>
            <p:cNvSpPr/>
            <p:nvPr/>
          </p:nvSpPr>
          <p:spPr>
            <a:xfrm>
              <a:off x="3308400" y="2533680"/>
              <a:ext cx="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08400" y="260964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65560" y="2490840"/>
              <a:ext cx="77760" cy="133200"/>
            </a:xfrm>
            <a:custGeom>
              <a:avLst/>
              <a:gdLst/>
              <a:ahLst/>
              <a:rect l="l" t="t" r="r" b="b"/>
              <a:pathLst>
                <a:path w="49" h="84">
                  <a:moveTo>
                    <a:pt x="24" y="83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24" y="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325680" y="2548080"/>
            <a:ext cx="2228760" cy="0"/>
            <a:chOff x="3325680" y="2548080"/>
            <a:chExt cx="2228760" cy="0"/>
          </a:xfrm>
        </p:grpSpPr>
        <p:sp>
          <p:nvSpPr>
            <p:cNvPr id="216" name=""/>
            <p:cNvSpPr/>
            <p:nvPr/>
          </p:nvSpPr>
          <p:spPr>
            <a:xfrm>
              <a:off x="332568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9920" y="254808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90920" y="25480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480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5904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41480" y="254808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24280" y="254808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0816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90960" y="254808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74840" y="254808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55840" y="2548080"/>
              <a:ext cx="129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4008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24320" y="254808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05320" y="2548080"/>
              <a:ext cx="126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8920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7344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55880" y="254808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40120" y="2548080"/>
              <a:ext cx="9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2256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905360" y="2548080"/>
              <a:ext cx="10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89240" y="254808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73480" y="2548080"/>
              <a:ext cx="9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5448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3872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32116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0360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87840" y="2548080"/>
              <a:ext cx="111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554440" y="254808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748680" y="2352600"/>
            <a:ext cx="142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eriodic it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2243160"/>
            <a:ext cx="1752840" cy="154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ilitated by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stry Canad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tential Facilitator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Other Departments, Research Organizations, Associations or Consult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30360" y="5556240"/>
            <a:ext cx="1139760" cy="63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ademia and Research Organ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8861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eas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28861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2886120"/>
            <a:ext cx="911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94000" y="4227480"/>
            <a:ext cx="273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ons to develop, commercialize and transfe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94000" y="5675400"/>
            <a:ext cx="2664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iodic evaluation, re-thinking, and cultural ad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82920" y="355284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00240" y="4010040"/>
            <a:ext cx="0" cy="290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4376880"/>
            <a:ext cx="762120" cy="533160"/>
          </a:xfrm>
          <a:prstGeom prst="rightArrow">
            <a:avLst>
              <a:gd name="adj1" fmla="val 50000"/>
              <a:gd name="adj2" fmla="val 35736"/>
            </a:avLst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248520" y="4300560"/>
            <a:ext cx="685800" cy="533520"/>
          </a:xfrm>
          <a:prstGeom prst="rightArrow">
            <a:avLst>
              <a:gd name="adj1" fmla="val 50000"/>
              <a:gd name="adj2" fmla="val 32136"/>
            </a:avLst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743680" cy="8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A </a:t>
            </a:r>
            <a:r>
              <a:rPr b="0" lang="en-CA" sz="3000" spc="-1" strike="noStrike">
                <a:solidFill>
                  <a:srgbClr val="990000"/>
                </a:solidFill>
                <a:latin typeface="Arial"/>
              </a:rPr>
              <a:t>Canadian experience with STRM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3063960" y="3679560"/>
            <a:ext cx="0" cy="2220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"/>
          <p:cNvGrpSpPr/>
          <p:nvPr/>
        </p:nvGrpSpPr>
        <p:grpSpPr>
          <a:xfrm>
            <a:off x="153360" y="1484280"/>
            <a:ext cx="8678520" cy="4785480"/>
            <a:chOff x="153360" y="1484280"/>
            <a:chExt cx="8678520" cy="4785480"/>
          </a:xfrm>
        </p:grpSpPr>
        <p:sp>
          <p:nvSpPr>
            <p:cNvPr id="259" name=""/>
            <p:cNvSpPr/>
            <p:nvPr/>
          </p:nvSpPr>
          <p:spPr>
            <a:xfrm>
              <a:off x="3013200" y="1933560"/>
              <a:ext cx="4643280" cy="421308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200" y="220500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13200" y="248436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013200" y="275760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006720" y="3313080"/>
              <a:ext cx="4641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06720" y="3552840"/>
              <a:ext cx="4641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006720" y="3816360"/>
              <a:ext cx="4641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06720" y="4076640"/>
              <a:ext cx="46418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09960" y="456408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09960" y="480384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09960" y="506736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09960" y="532908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13200" y="585144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13200" y="6148440"/>
              <a:ext cx="4640040" cy="0"/>
            </a:xfrm>
            <a:prstGeom prst="line">
              <a:avLst/>
            </a:prstGeom>
            <a:ln w="32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46840" y="1581120"/>
              <a:ext cx="493920" cy="401760"/>
            </a:xfrm>
            <a:prstGeom prst="rightArrow">
              <a:avLst>
                <a:gd name="adj1" fmla="val 58278"/>
                <a:gd name="adj2" fmla="val 28538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1880" y="2028960"/>
              <a:ext cx="27990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Market / Customers / Competitor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Environment  / Industry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Business / Trends / Drivers / Threat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Objectives / Milestones / Strate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8640" y="3144960"/>
              <a:ext cx="282168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Products / Services / Application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Services / Capabilities / Performance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Features / Components / Familie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Processes / Systems / Platform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Opportunities / Requirements / Ris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1720" y="4565520"/>
              <a:ext cx="12200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Technology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Competences 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3360" y="5384880"/>
              <a:ext cx="2858400" cy="8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 Narrow"/>
                </a:rPr>
                <a:t>Other resources: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Skills / Partnerships / Suppliers 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Facilities / Infrastructure / Organisation 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Standards / Science / Finance / R&amp;D Proje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3013200" y="3044880"/>
              <a:ext cx="464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3013200" y="4349880"/>
              <a:ext cx="464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41520" y="4586400"/>
              <a:ext cx="1306800" cy="204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44800" y="3328920"/>
              <a:ext cx="1301760" cy="2001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78160" y="4835520"/>
              <a:ext cx="1300320" cy="2016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13360" y="5092560"/>
              <a:ext cx="1301760" cy="208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13200" y="3841560"/>
              <a:ext cx="1298520" cy="204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80160" y="4829040"/>
              <a:ext cx="1298520" cy="206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62440" y="3328920"/>
              <a:ext cx="1297080" cy="204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476600" y="3525840"/>
              <a:ext cx="0" cy="10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380200" y="4052880"/>
              <a:ext cx="0" cy="78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846840" y="3532320"/>
              <a:ext cx="0" cy="12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49800" y="3438360"/>
              <a:ext cx="50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83160" y="4937040"/>
              <a:ext cx="29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48320" y="4575240"/>
              <a:ext cx="104760" cy="242640"/>
            </a:xfrm>
            <a:custGeom>
              <a:avLst/>
              <a:gdLst/>
              <a:ahLst/>
              <a:rect l="l" t="t" r="r" b="b"/>
              <a:pathLst>
                <a:path w="52" h="113">
                  <a:moveTo>
                    <a:pt x="0" y="0"/>
                  </a:moveTo>
                  <a:lnTo>
                    <a:pt x="52" y="0"/>
                  </a:lnTo>
                  <a:lnTo>
                    <a:pt x="52" y="113"/>
                  </a:lnTo>
                </a:path>
              </a:pathLst>
            </a:custGeom>
            <a:solidFill>
              <a:srgbClr val="e0e0e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41720" y="3535200"/>
              <a:ext cx="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203800" y="5037120"/>
              <a:ext cx="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199200" y="5037120"/>
              <a:ext cx="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07320" y="2441520"/>
              <a:ext cx="0" cy="89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33880" y="2743200"/>
              <a:ext cx="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3013200" y="5554800"/>
              <a:ext cx="4643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533760" y="5902200"/>
              <a:ext cx="1311120" cy="201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38640" y="5594400"/>
              <a:ext cx="581040" cy="204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010200" y="5902200"/>
              <a:ext cx="728640" cy="2016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844880" y="5689440"/>
              <a:ext cx="293760" cy="3114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48" y="96"/>
                  </a:lnTo>
                  <a:lnTo>
                    <a:pt x="48" y="0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708360" y="4788000"/>
              <a:ext cx="0" cy="11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492960" y="5021280"/>
              <a:ext cx="0" cy="87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5583240" y="5299200"/>
              <a:ext cx="0" cy="29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83120" y="5999040"/>
              <a:ext cx="102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97160" y="1484280"/>
              <a:ext cx="1134720" cy="41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 Narrow"/>
                </a:rPr>
                <a:t>(know-when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‘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purpose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 Narrow"/>
                </a:rPr>
                <a:t>(know-why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‘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delivery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 Narrow"/>
                </a:rPr>
                <a:t>(know-wha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‘</a:t>
              </a: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resources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Arial Narrow"/>
                </a:rPr>
                <a:t>(know-how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94120" y="160956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Pa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795840" y="160488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No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48960" y="1604880"/>
              <a:ext cx="6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Pla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08400" y="1604880"/>
              <a:ext cx="69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Fu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04880" y="1604880"/>
              <a:ext cx="68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 Narrow"/>
                </a:rPr>
                <a:t>V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13160" y="2529000"/>
              <a:ext cx="2320920" cy="1951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805360" y="2246400"/>
              <a:ext cx="1301760" cy="1998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913280" y="2494080"/>
              <a:ext cx="246240" cy="24732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77000" y="2219400"/>
              <a:ext cx="244440" cy="247680"/>
            </a:xfrm>
            <a:prstGeom prst="diamond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8780000">
              <a:off x="5295960" y="2806200"/>
              <a:ext cx="1957320" cy="515880"/>
            </a:xfrm>
            <a:prstGeom prst="rightArrow">
              <a:avLst>
                <a:gd name="adj1" fmla="val 68593"/>
                <a:gd name="adj2" fmla="val 91814"/>
              </a:avLst>
            </a:prstGeom>
            <a:solidFill>
              <a:srgbClr val="ffffff"/>
            </a:solidFill>
            <a:ln w="19080">
              <a:solidFill>
                <a:srgbClr val="1618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161883"/>
                  </a:solidFill>
                  <a:latin typeface="Times New Roman"/>
                </a:rPr>
                <a:t>Market Pul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8780000">
              <a:off x="3604320" y="4431240"/>
              <a:ext cx="2479680" cy="554040"/>
            </a:xfrm>
            <a:prstGeom prst="rightArrow">
              <a:avLst>
                <a:gd name="adj1" fmla="val 68593"/>
                <a:gd name="adj2" fmla="val 108306"/>
              </a:avLst>
            </a:prstGeom>
            <a:solidFill>
              <a:srgbClr val="ffffff"/>
            </a:solidFill>
            <a:ln w="19080">
              <a:solidFill>
                <a:srgbClr val="1618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161883"/>
                  </a:solidFill>
                  <a:latin typeface="Times New Roman"/>
                </a:rPr>
                <a:t>Technology pus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54320" y="1974960"/>
              <a:ext cx="727200" cy="2030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405560" y="1795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 Narrow"/>
              </a:rPr>
              <a:t>Layers connec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90000"/>
                </a:solidFill>
                <a:latin typeface="Arial"/>
              </a:rPr>
              <a:t>Generic roadmap – </a:t>
            </a:r>
            <a:br>
              <a:rPr sz="3000"/>
            </a:br>
            <a:r>
              <a:rPr b="0" lang="en-GB" sz="3000" spc="-1" strike="noStrike">
                <a:solidFill>
                  <a:srgbClr val="990000"/>
                </a:solidFill>
                <a:latin typeface="Arial"/>
              </a:rPr>
              <a:t>links resources to objectives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8420760" y="5832360"/>
            <a:ext cx="3970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5960" y="239760"/>
            <a:ext cx="876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Roadmap for Electronic De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20760" y="909360"/>
            <a:ext cx="8289360" cy="5332680"/>
            <a:chOff x="320760" y="909360"/>
            <a:chExt cx="8289360" cy="5332680"/>
          </a:xfrm>
        </p:grpSpPr>
        <p:grpSp>
          <p:nvGrpSpPr>
            <p:cNvPr id="325" name=""/>
            <p:cNvGrpSpPr/>
            <p:nvPr/>
          </p:nvGrpSpPr>
          <p:grpSpPr>
            <a:xfrm>
              <a:off x="1070640" y="1380240"/>
              <a:ext cx="7539480" cy="4267800"/>
              <a:chOff x="1070640" y="1380240"/>
              <a:chExt cx="7539480" cy="4267800"/>
            </a:xfrm>
          </p:grpSpPr>
          <p:sp>
            <p:nvSpPr>
              <p:cNvPr id="326" name=""/>
              <p:cNvSpPr/>
              <p:nvPr/>
            </p:nvSpPr>
            <p:spPr>
              <a:xfrm>
                <a:off x="1070640" y="458100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70640" y="244692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70640" y="351396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70640" y="404748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070640" y="511452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0640" y="298044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0640" y="1913400"/>
                <a:ext cx="753948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2955600" y="5574240"/>
                <a:ext cx="0" cy="73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6725160" y="5574240"/>
                <a:ext cx="0" cy="73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840200" y="5574240"/>
                <a:ext cx="0" cy="730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070640" y="1380240"/>
                <a:ext cx="7539480" cy="4267800"/>
              </a:xfrm>
              <a:prstGeom prst="rect">
                <a:avLst/>
              </a:prstGeom>
              <a:noFill/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916200" y="5659200"/>
              <a:ext cx="34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84960" y="5659200"/>
              <a:ext cx="34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48680" y="5659200"/>
              <a:ext cx="397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43320" y="5426280"/>
              <a:ext cx="34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3320" y="4962960"/>
              <a:ext cx="34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3320" y="4427280"/>
              <a:ext cx="34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43320" y="3895200"/>
              <a:ext cx="34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20760" y="909360"/>
              <a:ext cx="3449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umber of chip compon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64600" y="5967360"/>
              <a:ext cx="2702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eature size (micr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5400" y="3367440"/>
              <a:ext cx="43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5400" y="2833560"/>
              <a:ext cx="43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5400" y="1298520"/>
              <a:ext cx="43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45400" y="2301480"/>
              <a:ext cx="43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5400" y="1767960"/>
              <a:ext cx="4338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34720" y="5659200"/>
              <a:ext cx="3970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2200" spc="-1" strike="noStrike" baseline="30000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70640" y="4052520"/>
              <a:ext cx="2820960" cy="1595520"/>
            </a:xfrm>
            <a:custGeom>
              <a:avLst/>
              <a:gdLst/>
              <a:ahLst/>
              <a:rect l="l" t="t" r="r" b="b"/>
              <a:pathLst>
                <a:path w="1814" h="1041">
                  <a:moveTo>
                    <a:pt x="0" y="1041"/>
                  </a:moveTo>
                  <a:lnTo>
                    <a:pt x="1814" y="0"/>
                  </a:lnTo>
                </a:path>
              </a:pathLst>
            </a:custGeom>
            <a:noFill/>
            <a:ln w="76320">
              <a:solidFill>
                <a:srgbClr val="00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91600" y="3224520"/>
              <a:ext cx="1460160" cy="828000"/>
            </a:xfrm>
            <a:custGeom>
              <a:avLst/>
              <a:gdLst/>
              <a:ahLst/>
              <a:rect l="l" t="t" r="r" b="b"/>
              <a:pathLst>
                <a:path w="939" h="540">
                  <a:moveTo>
                    <a:pt x="0" y="540"/>
                  </a:moveTo>
                  <a:lnTo>
                    <a:pt x="939" y="0"/>
                  </a:ln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350680" y="1386360"/>
              <a:ext cx="0" cy="4265280"/>
            </a:xfrm>
            <a:prstGeom prst="line">
              <a:avLst/>
            </a:prstGeom>
            <a:ln w="2844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71320" y="1502640"/>
              <a:ext cx="1655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assical 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8320" y="4045320"/>
              <a:ext cx="174096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ff"/>
                  </a:solidFill>
                  <a:latin typeface="Arial"/>
                </a:rPr>
                <a:t>Historical Tre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40840" y="3120840"/>
              <a:ext cx="148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66"/>
                  </a:solidFill>
                  <a:latin typeface="Arial"/>
                </a:rPr>
                <a:t>SIA Roadm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4892040" y="2982600"/>
              <a:ext cx="506520" cy="472680"/>
              <a:chOff x="4892040" y="2982600"/>
              <a:chExt cx="506520" cy="472680"/>
            </a:xfrm>
          </p:grpSpPr>
          <p:sp>
            <p:nvSpPr>
              <p:cNvPr id="359" name=""/>
              <p:cNvSpPr/>
              <p:nvPr/>
            </p:nvSpPr>
            <p:spPr>
              <a:xfrm>
                <a:off x="4892040" y="298260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34600" y="323460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4222080" y="4176360"/>
              <a:ext cx="764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M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3640680" y="3686400"/>
              <a:ext cx="506520" cy="472680"/>
              <a:chOff x="3640680" y="3686400"/>
              <a:chExt cx="506520" cy="472680"/>
            </a:xfrm>
          </p:grpSpPr>
          <p:sp>
            <p:nvSpPr>
              <p:cNvPr id="363" name=""/>
              <p:cNvSpPr/>
              <p:nvPr/>
            </p:nvSpPr>
            <p:spPr>
              <a:xfrm>
                <a:off x="3640680" y="368640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9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82880" y="393840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056840" y="3449880"/>
              <a:ext cx="506520" cy="471600"/>
              <a:chOff x="4056840" y="3449880"/>
              <a:chExt cx="506520" cy="471600"/>
            </a:xfrm>
          </p:grpSpPr>
          <p:sp>
            <p:nvSpPr>
              <p:cNvPr id="366" name=""/>
              <p:cNvSpPr/>
              <p:nvPr/>
            </p:nvSpPr>
            <p:spPr>
              <a:xfrm>
                <a:off x="4056840" y="344988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99400" y="370080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474080" y="3216600"/>
              <a:ext cx="506520" cy="471960"/>
              <a:chOff x="4474080" y="3216600"/>
              <a:chExt cx="506520" cy="471960"/>
            </a:xfrm>
          </p:grpSpPr>
          <p:sp>
            <p:nvSpPr>
              <p:cNvPr id="369" name=""/>
              <p:cNvSpPr/>
              <p:nvPr/>
            </p:nvSpPr>
            <p:spPr>
              <a:xfrm>
                <a:off x="4474080" y="321660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616280" y="346788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100000">
                    <a:srgbClr val="005e4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1104120" y="5121720"/>
              <a:ext cx="506520" cy="472680"/>
              <a:chOff x="1104120" y="5121720"/>
              <a:chExt cx="506520" cy="472680"/>
            </a:xfrm>
          </p:grpSpPr>
          <p:sp>
            <p:nvSpPr>
              <p:cNvPr id="372" name=""/>
              <p:cNvSpPr/>
              <p:nvPr/>
            </p:nvSpPr>
            <p:spPr>
              <a:xfrm>
                <a:off x="1104120" y="512172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7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245960" y="537372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924200" y="4656600"/>
              <a:ext cx="506520" cy="471600"/>
              <a:chOff x="1924200" y="4656600"/>
              <a:chExt cx="506520" cy="471600"/>
            </a:xfrm>
          </p:grpSpPr>
          <p:sp>
            <p:nvSpPr>
              <p:cNvPr id="375" name=""/>
              <p:cNvSpPr/>
              <p:nvPr/>
            </p:nvSpPr>
            <p:spPr>
              <a:xfrm>
                <a:off x="1924200" y="465660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8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067120" y="490752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2707200" y="4214880"/>
              <a:ext cx="506520" cy="471600"/>
              <a:chOff x="2707200" y="4214880"/>
              <a:chExt cx="506520" cy="471600"/>
            </a:xfrm>
          </p:grpSpPr>
          <p:sp>
            <p:nvSpPr>
              <p:cNvPr id="378" name=""/>
              <p:cNvSpPr/>
              <p:nvPr/>
            </p:nvSpPr>
            <p:spPr>
              <a:xfrm>
                <a:off x="2707200" y="4214880"/>
                <a:ext cx="506520" cy="24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99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849400" y="446580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1070640" y="1380240"/>
              <a:ext cx="7539480" cy="42678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352120" y="1380240"/>
              <a:ext cx="3258000" cy="1843920"/>
            </a:xfrm>
            <a:custGeom>
              <a:avLst/>
              <a:gdLst/>
              <a:ahLst/>
              <a:rect l="l" t="t" r="r" b="b"/>
              <a:pathLst>
                <a:path w="2095" h="1203">
                  <a:moveTo>
                    <a:pt x="0" y="1203"/>
                  </a:moveTo>
                  <a:lnTo>
                    <a:pt x="2095" y="0"/>
                  </a:lnTo>
                </a:path>
              </a:pathLst>
            </a:custGeom>
            <a:noFill/>
            <a:ln w="7632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364360" y="2707560"/>
              <a:ext cx="399960" cy="513720"/>
              <a:chOff x="5364360" y="2707560"/>
              <a:chExt cx="399960" cy="513720"/>
            </a:xfrm>
          </p:grpSpPr>
          <p:sp>
            <p:nvSpPr>
              <p:cNvPr id="383" name=""/>
              <p:cNvSpPr/>
              <p:nvPr/>
            </p:nvSpPr>
            <p:spPr>
              <a:xfrm>
                <a:off x="5364360" y="2707560"/>
                <a:ext cx="39996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453280" y="3000600"/>
                <a:ext cx="223920" cy="220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5e5e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6134760" y="1502640"/>
              <a:ext cx="1669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ntum 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6145560" y="2230200"/>
              <a:ext cx="526680" cy="513720"/>
              <a:chOff x="6145560" y="2230200"/>
              <a:chExt cx="526680" cy="513720"/>
            </a:xfrm>
          </p:grpSpPr>
          <p:sp>
            <p:nvSpPr>
              <p:cNvPr id="387" name=""/>
              <p:cNvSpPr/>
              <p:nvPr/>
            </p:nvSpPr>
            <p:spPr>
              <a:xfrm>
                <a:off x="6145560" y="2230200"/>
                <a:ext cx="52668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7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297480" y="252324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5e5e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7890120" y="1216080"/>
              <a:ext cx="653040" cy="513000"/>
              <a:chOff x="7890120" y="1216080"/>
              <a:chExt cx="653040" cy="513000"/>
            </a:xfrm>
          </p:grpSpPr>
          <p:sp>
            <p:nvSpPr>
              <p:cNvPr id="390" name=""/>
              <p:cNvSpPr/>
              <p:nvPr/>
            </p:nvSpPr>
            <p:spPr>
              <a:xfrm>
                <a:off x="7890120" y="1216080"/>
                <a:ext cx="65304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95</a:t>
                </a:r>
                <a:r>
                  <a:rPr b="1" lang="en-US" sz="2400" spc="-1" strike="noStrike" baseline="30000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107560" y="1508400"/>
                <a:ext cx="223560" cy="220680"/>
              </a:xfrm>
              <a:prstGeom prst="ellipse">
                <a:avLst/>
              </a:prstGeom>
              <a:gradFill rotWithShape="0">
                <a:gsLst>
                  <a:gs pos="0">
                    <a:srgbClr val="ccccff"/>
                  </a:gs>
                  <a:gs pos="100000">
                    <a:srgbClr val="5e5e75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5881680" y="3103200"/>
              <a:ext cx="2701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ntum State Switc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7453440" y="6093000"/>
            <a:ext cx="118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Fine, 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0643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Nanotechnology Roadmap – lessons learned:</a:t>
            </a:r>
            <a:br>
              <a:rPr sz="3000"/>
            </a:b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Atomically Precise Technology (APT)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precision is the guiding vision for nano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for Moore's law progress in 15 year tim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for optimal materials and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orms have sharply restricted cap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s will enable expanding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T development requires focused cross-disciplinary research to develop a body of engineering knowledge for systematic design and improvement of AP nano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219640" y="5851440"/>
            <a:ext cx="340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Foresight Nanotech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775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Nanotechnology roadmap – lessons learned:</a:t>
            </a:r>
            <a:br>
              <a:rPr sz="3000"/>
            </a:b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Atomically Precise Manufacturing (APM)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feature: programmable control of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for engineering and fabricating complex AP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ning probe devices: APM on metals, semiconduc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molecular machines: APM of polymer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assembly: large AP products from smaller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-term APM promises a growing range of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ced APM promises revolutionary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990000"/>
                </a:solidFill>
                <a:latin typeface="Arial"/>
              </a:rPr>
              <a:t>Issues for a CTBT-ISS S&amp;T Foresight initiative 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tablishing the scope and the issue/s to be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In need of a scenario-based approach ?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fining the time horiz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Crucial balance between policy relevance and exploratory character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signing an appropriate foresigh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Definition of the range of stakeholders to engage, and of the approaches to achieve it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lecting the appropriate foresigh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Drawing on the foresight „toolbox“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nsuring adequate particip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Mobilising the relevant communities is challenging!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990000"/>
                </a:solidFill>
                <a:latin typeface="Arial"/>
              </a:rPr>
              <a:t>Issues for a CTBT-ISS S&amp;T Foresight initiative 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ppropriate guidance and fac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Professional support is essential for succes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gular updating and integration in CTBT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Not just a one-off exercise, but part of a wider learning proces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990000"/>
                </a:solidFill>
                <a:latin typeface="Arial"/>
              </a:rPr>
              <a:t>Overview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context for a CTBT-ISS S&amp;T Foresight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e landscape of S&amp;T Foresight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 with S&amp;T Road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Key issues for a CTBT-ISS S&amp;T Foresight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00"/>
                </a:solidFill>
                <a:latin typeface="Arial"/>
              </a:rPr>
              <a:t>The global context for CTBT-ISS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political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E.g. new entrants/exits to the “nuclear club”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agreements and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E.g. early detection of nuclear disasters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in perception of r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E.g. greater focus on climate change and natural disasters 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press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E.g. budget cut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tific ad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E.g. infrasound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ical adv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E.g. IT-based communication and computation advance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55320"/>
            <a:ext cx="80773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990000"/>
                </a:solidFill>
                <a:latin typeface="Arial"/>
              </a:rPr>
              <a:t>The local context for a CTBTO S&amp;T Foresight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hift from building up a verification system to operating, maintaining and upgrading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merging needs an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Assess appropriateness of the existing system to meet its future task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Continuous monitoring of emerging S&amp;T opportunitie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Consensus-building on the introduction of novel element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Integration into the existing system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Spill-over potential into other problem areas (e.g. natural disasters)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55320"/>
            <a:ext cx="86868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990000"/>
                </a:solidFill>
                <a:latin typeface="Arial"/>
              </a:rPr>
              <a:t>The local context for a CTBTO S&amp;T Foresight (2) 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1000" y="1600200"/>
            <a:ext cx="8093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hree stakeholder communities to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Preparatory Comission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CTBT-IS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ts val="1998"/>
              </a:lnSpc>
              <a:spcBef>
                <a:spcPts val="499"/>
              </a:spcBef>
              <a:buClr>
                <a:srgbClr val="666666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66666"/>
                </a:solidFill>
                <a:latin typeface="Arial"/>
              </a:rPr>
              <a:t>Scientific communities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343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&amp;T Foresight as a process-based instrument to deal with emerging needs and opportunities in interaction with stakeholder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ts val="1998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7520" y="3246480"/>
            <a:ext cx="215640" cy="358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990000"/>
                </a:solidFill>
                <a:latin typeface="Arial"/>
              </a:rPr>
              <a:t>Forecasting – Foresight – Planning</a:t>
            </a:r>
            <a:br>
              <a:rPr sz="3000"/>
            </a:br>
            <a:r>
              <a:rPr b="0" lang="en-GB" sz="3000" spc="-1" strike="noStrike">
                <a:solidFill>
                  <a:srgbClr val="990000"/>
                </a:solidFill>
                <a:latin typeface="Arial"/>
              </a:rPr>
              <a:t>What is the difference?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Forecast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upposes that there is one possible future, based on extrapolation or projections of past and present trends. Involves only experts. Time horizons commonly 5-1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Foresigh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ssume that there are many futures, and through the mobilisation of interested stakeholders it is feasible to develop a fuller understanding of the forces shaping the long-term future. It uses time horizons of 10-20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ts val="2398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2398"/>
              </a:lnSpc>
              <a:spcBef>
                <a:spcPts val="601"/>
              </a:spcBef>
              <a:buClr>
                <a:srgbClr val="9900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Arial"/>
              </a:rPr>
              <a:t>Plann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based on theories or doctrines on future developments. Involves only policy makers and experts. Time horizons between 1-5 ye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rot="5397000">
            <a:off x="2195640" y="-638640"/>
            <a:ext cx="4800600" cy="9094680"/>
          </a:xfrm>
          <a:custGeom>
            <a:avLst/>
            <a:gdLst>
              <a:gd name="textAreaLeft" fmla="*/ 1140480 w 4800600"/>
              <a:gd name="textAreaRight" fmla="*/ 3660120 w 4800600"/>
              <a:gd name="textAreaTop" fmla="*/ 2160720 h 9094680"/>
              <a:gd name="textAreaBottom" fmla="*/ 6933960 h 909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512" y="21600"/>
                </a:lnTo>
                <a:lnTo>
                  <a:pt x="6088" y="21600"/>
                </a:lnTo>
                <a:close/>
              </a:path>
            </a:pathLst>
          </a:custGeom>
          <a:gradFill rotWithShape="0">
            <a:gsLst>
              <a:gs pos="0">
                <a:srgbClr val="fef5f1"/>
              </a:gs>
              <a:gs pos="100000">
                <a:srgbClr val="ff99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880" rIns="47880" tIns="23760" bIns="23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6280" y="2351160"/>
            <a:ext cx="15663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c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d Trend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4800" y="5316480"/>
            <a:ext cx="1694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echnology Fores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e.g. Delphi-Studi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Monitor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57680" y="4379760"/>
            <a:ext cx="215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duct Impact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50880" y="4562640"/>
            <a:ext cx="18972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 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e.g.Offices for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sess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3280" y="1820880"/>
            <a:ext cx="1796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enarios of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cie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e.g. Political think tan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260840" y="2847960"/>
            <a:ext cx="1523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 Tr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e.g. World Bank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orldwatch Institu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3920" y="4836960"/>
            <a:ext cx="953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21083400">
            <a:off x="6914880" y="1374480"/>
            <a:ext cx="1735560" cy="231120"/>
          </a:xfrm>
          <a:prstGeom prst="rect">
            <a:avLst/>
          </a:prstGeom>
          <a:solidFill>
            <a:srgbClr val="ffc7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ng term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397000">
            <a:off x="267480" y="2092320"/>
            <a:ext cx="3157560" cy="3693960"/>
          </a:xfrm>
          <a:custGeom>
            <a:avLst/>
            <a:gdLst>
              <a:gd name="textAreaLeft" fmla="*/ 537480 w 3157560"/>
              <a:gd name="textAreaRight" fmla="*/ 2620080 w 3157560"/>
              <a:gd name="textAreaTop" fmla="*/ 628920 h 3693960"/>
              <a:gd name="textAreaBottom" fmla="*/ 3065040 h 369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31" y="21600"/>
                </a:lnTo>
                <a:lnTo>
                  <a:pt x="3469" y="21600"/>
                </a:lnTo>
                <a:close/>
              </a:path>
            </a:pathLst>
          </a:custGeom>
          <a:gradFill rotWithShape="0">
            <a:gsLst>
              <a:gs pos="0">
                <a:srgbClr val="ffff66"/>
              </a:gs>
              <a:gs pos="100000">
                <a:srgbClr val="fefec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360" y="3102120"/>
            <a:ext cx="1297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onven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360" y="2752560"/>
            <a:ext cx="13388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rate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rket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95480" y="4608360"/>
            <a:ext cx="971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46600" y="3390840"/>
            <a:ext cx="2469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spective Economic Analy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4080" y="4075200"/>
            <a:ext cx="1003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1147600">
            <a:off x="1519200" y="2133720"/>
            <a:ext cx="2407320" cy="2397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5724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hort/medium term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1880" y="1371600"/>
            <a:ext cx="35733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cus on Markets and Business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economic, political, societal, ecologic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= non-technological driving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14960" y="5562720"/>
            <a:ext cx="1883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cus on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3809880"/>
            <a:ext cx="6030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313000">
            <a:off x="1994400" y="2986920"/>
            <a:ext cx="167544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3733920"/>
            <a:ext cx="70106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9040" rIns="5904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2313000">
            <a:off x="1892160" y="1670400"/>
            <a:ext cx="3730680" cy="460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977" y="64"/>
                </a:moveTo>
                <a:arcTo wR="10800" hR="10800" stAng="-5024502" swAng="5021166"/>
                <a:lnTo>
                  <a:pt x="10800" y="10800"/>
                </a:lnTo>
                <a:close/>
              </a:path>
              <a:path fill="none" w="21600" h="21600">
                <a:moveTo>
                  <a:pt x="11977" y="64"/>
                </a:moveTo>
                <a:arcTo wR="10800" hR="10800" stAng="-5024502" swAng="5021166"/>
              </a:path>
            </a:pathLst>
          </a:custGeom>
          <a:noFill/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313000">
            <a:off x="2785320" y="953280"/>
            <a:ext cx="5257440" cy="608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8804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880439"/>
              </a:path>
            </a:pathLst>
          </a:custGeom>
          <a:noFill/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81480" y="3733920"/>
            <a:ext cx="10684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+ 1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96080" y="3733920"/>
            <a:ext cx="10670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+ 1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733920"/>
            <a:ext cx="9622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9040" rIns="5904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sz="1200" spc="-1" strike="noStrike">
                <a:solidFill>
                  <a:srgbClr val="000099"/>
                </a:solidFill>
                <a:latin typeface="Arial"/>
                <a:ea typeface="Times New Roman"/>
              </a:rPr>
              <a:t>+ 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0200" y="4151160"/>
            <a:ext cx="27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8240" rIns="48240" tIns="24120" bIns="24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1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novation and Technology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733920"/>
            <a:ext cx="82296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9040" rIns="5904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404640"/>
            <a:ext cx="686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000" spc="-1" strike="noStrike">
                <a:solidFill>
                  <a:srgbClr val="990000"/>
                </a:solidFill>
                <a:latin typeface="Arial"/>
                <a:ea typeface="Times New Roman"/>
              </a:rPr>
              <a:t>Landscape of F</a:t>
            </a:r>
            <a:r>
              <a:rPr b="0" lang="de-AT" sz="3000" spc="-1" strike="noStrike">
                <a:solidFill>
                  <a:srgbClr val="990000"/>
                </a:solidFill>
                <a:latin typeface="Arial"/>
                <a:ea typeface="Times New Roman"/>
              </a:rPr>
              <a:t>uture Stud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5867280"/>
            <a:ext cx="129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Swis721 Cn BT"/>
                <a:ea typeface="Times New Roman"/>
              </a:rPr>
              <a:t>Source: F. Ru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365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209760"/>
                <a:gridCol w="503280"/>
                <a:gridCol w="966960"/>
                <a:gridCol w="503280"/>
                <a:gridCol w="1104840"/>
                <a:gridCol w="406440"/>
                <a:gridCol w="984240"/>
                <a:gridCol w="503280"/>
                <a:gridCol w="961920"/>
              </a:tblGrid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Methods &amp; To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Diagnos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Prescription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Microsoft Sans Serif"/>
                          <a:ea typeface="Times New Roman"/>
                          <a:hlinkClick r:id="rId1"/>
                        </a:rPr>
                        <a:t>Qualitative</a:t>
                      </a: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Microsoft Sans Serif"/>
                          <a:ea typeface="Times New Roman"/>
                          <a:hlinkClick r:id="rId2"/>
                        </a:rPr>
                        <a:t>Explora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Progn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Microsoft Sans Serif"/>
                          <a:ea typeface="Times New Roman"/>
                          <a:hlinkClick r:id="rId3"/>
                        </a:rPr>
                        <a:t>Quantit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Microsoft Sans Serif"/>
                          <a:ea typeface="Times New Roman"/>
                          <a:hlinkClick r:id="rId4"/>
                        </a:rPr>
                        <a:t>Norm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 u="sng">
                          <a:solidFill>
                            <a:srgbClr val="ccccff"/>
                          </a:solidFill>
                          <a:uFillTx/>
                          <a:latin typeface="Microsoft Sans Serif"/>
                          <a:ea typeface="Times New Roman"/>
                          <a:hlinkClick r:id="rId5"/>
                        </a:rPr>
                        <a:t>Predi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800" spc="-1" strike="noStrike" u="sng">
                          <a:solidFill>
                            <a:srgbClr val="ccccff"/>
                          </a:solidFill>
                          <a:uFillTx/>
                          <a:latin typeface="Microsoft Sans Serif"/>
                          <a:ea typeface="Times New Roman"/>
                          <a:hlinkClick r:id="rId6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Environmental Scanning/Monitor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Trend Extrapo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Modelling and Sim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Expert Pan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Delphi Surv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Road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Critical/Key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5760">
                      <a:solidFill>
                        <a:srgbClr val="6666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3333cc"/>
                          </a:solidFill>
                          <a:latin typeface="Microsoft Sans Serif"/>
                          <a:ea typeface="Times New Roman"/>
                        </a:rPr>
                        <a:t>Scenario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666666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cef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252525"/>
                          </a:solidFill>
                          <a:latin typeface="Microsoft Sans Serif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1125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Exploratory approach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hat would we expect to happen if this event happens or if that trend develo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84360" y="1903320"/>
            <a:ext cx="7991280" cy="1799280"/>
            <a:chOff x="684360" y="1903320"/>
            <a:chExt cx="7991280" cy="1799280"/>
          </a:xfrm>
        </p:grpSpPr>
        <p:grpSp>
          <p:nvGrpSpPr>
            <p:cNvPr id="139" name=""/>
            <p:cNvGrpSpPr/>
            <p:nvPr/>
          </p:nvGrpSpPr>
          <p:grpSpPr>
            <a:xfrm>
              <a:off x="684360" y="1989000"/>
              <a:ext cx="2520720" cy="1582560"/>
              <a:chOff x="684360" y="1989000"/>
              <a:chExt cx="2520720" cy="1582560"/>
            </a:xfrm>
          </p:grpSpPr>
          <p:sp>
            <p:nvSpPr>
              <p:cNvPr id="140" name=""/>
              <p:cNvSpPr/>
              <p:nvPr/>
            </p:nvSpPr>
            <p:spPr>
              <a:xfrm>
                <a:off x="684360" y="1989000"/>
                <a:ext cx="2520720" cy="1582560"/>
              </a:xfrm>
              <a:prstGeom prst="ellipse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116000" y="2292120"/>
                <a:ext cx="180036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336699"/>
                    </a:solidFill>
                    <a:latin typeface="Verdana"/>
                    <a:ea typeface="Times New Roman"/>
                  </a:rPr>
                  <a:t>Knowledge about the prese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6300720" y="2103120"/>
              <a:ext cx="2374920" cy="1599480"/>
              <a:chOff x="6300720" y="2103120"/>
              <a:chExt cx="2374920" cy="1599480"/>
            </a:xfrm>
          </p:grpSpPr>
          <p:sp>
            <p:nvSpPr>
              <p:cNvPr id="143" name=""/>
              <p:cNvSpPr/>
              <p:nvPr/>
            </p:nvSpPr>
            <p:spPr>
              <a:xfrm>
                <a:off x="6300720" y="2103120"/>
                <a:ext cx="1800000" cy="8625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16360" y="2319120"/>
                <a:ext cx="1800360" cy="862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875280" y="2535120"/>
                <a:ext cx="1800360" cy="11674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20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Alternative futur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260520" y="1903320"/>
              <a:ext cx="2840040" cy="1629720"/>
              <a:chOff x="3260520" y="1903320"/>
              <a:chExt cx="2840040" cy="16297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3261240" y="1903320"/>
                <a:ext cx="2838960" cy="745560"/>
                <a:chOff x="3261240" y="1903320"/>
                <a:chExt cx="2838960" cy="745560"/>
              </a:xfrm>
            </p:grpSpPr>
            <p:sp>
              <p:nvSpPr>
                <p:cNvPr id="148" name=""/>
                <p:cNvSpPr/>
                <p:nvPr/>
              </p:nvSpPr>
              <p:spPr>
                <a:xfrm rot="21211800">
                  <a:off x="3276360" y="2059920"/>
                  <a:ext cx="2808000" cy="432000"/>
                </a:xfrm>
                <a:prstGeom prst="rightArrow">
                  <a:avLst>
                    <a:gd name="adj1" fmla="val 50000"/>
                    <a:gd name="adj2" fmla="val 162500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rot="21211800">
                  <a:off x="3924000" y="2124720"/>
                  <a:ext cx="93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What i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3260520" y="2749680"/>
                <a:ext cx="2840040" cy="783360"/>
                <a:chOff x="3260520" y="2749680"/>
                <a:chExt cx="2840040" cy="783360"/>
              </a:xfrm>
            </p:grpSpPr>
            <p:sp>
              <p:nvSpPr>
                <p:cNvPr id="151" name=""/>
                <p:cNvSpPr/>
                <p:nvPr/>
              </p:nvSpPr>
              <p:spPr>
                <a:xfrm rot="436200">
                  <a:off x="3276360" y="2925360"/>
                  <a:ext cx="2808000" cy="431640"/>
                </a:xfrm>
                <a:prstGeom prst="rightArrow">
                  <a:avLst>
                    <a:gd name="adj1" fmla="val 50000"/>
                    <a:gd name="adj2" fmla="val 162636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rot="436200">
                  <a:off x="3928320" y="2920680"/>
                  <a:ext cx="936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What i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84640" y="2493720"/>
                <a:ext cx="2808360" cy="432000"/>
                <a:chOff x="3284640" y="2493720"/>
                <a:chExt cx="2808360" cy="432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284640" y="2493720"/>
                  <a:ext cx="2808360" cy="432000"/>
                </a:xfrm>
                <a:prstGeom prst="rightArrow">
                  <a:avLst>
                    <a:gd name="adj1" fmla="val 50000"/>
                    <a:gd name="adj2" fmla="val 162521"/>
                  </a:avLst>
                </a:prstGeom>
                <a:solidFill>
                  <a:srgbClr val="ff99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932280" y="2525760"/>
                  <a:ext cx="936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cs-CZ" sz="1600" spc="-1" strike="noStrike">
                      <a:solidFill>
                        <a:srgbClr val="000000"/>
                      </a:solidFill>
                      <a:latin typeface="Verdana"/>
                      <a:ea typeface="Times New Roman"/>
                    </a:rPr>
                    <a:t>What i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6" name=""/>
          <p:cNvSpPr/>
          <p:nvPr/>
        </p:nvSpPr>
        <p:spPr>
          <a:xfrm>
            <a:off x="539640" y="364500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00"/>
                </a:solidFill>
                <a:latin typeface="Arial"/>
                <a:ea typeface="Times New Roman"/>
              </a:rPr>
              <a:t>Normative approach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what to do now to make the „best future“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826920" y="4213080"/>
            <a:ext cx="7991640" cy="2075400"/>
            <a:chOff x="826920" y="4213080"/>
            <a:chExt cx="7991640" cy="2075400"/>
          </a:xfrm>
        </p:grpSpPr>
        <p:sp>
          <p:nvSpPr>
            <p:cNvPr id="158" name=""/>
            <p:cNvSpPr/>
            <p:nvPr/>
          </p:nvSpPr>
          <p:spPr>
            <a:xfrm>
              <a:off x="6300720" y="4213080"/>
              <a:ext cx="1727280" cy="10080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6920" y="4574880"/>
              <a:ext cx="2521080" cy="158292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58920" y="4878000"/>
              <a:ext cx="180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6699"/>
                  </a:solidFill>
                  <a:latin typeface="Verdana"/>
                  <a:ea typeface="Times New Roman"/>
                </a:rPr>
                <a:t>Present a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443640" y="4689360"/>
              <a:ext cx="1800360" cy="86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59640" y="4905000"/>
              <a:ext cx="1800000" cy="862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018200" y="5121000"/>
              <a:ext cx="1800360" cy="11674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000000"/>
                  </a:solidFill>
                  <a:latin typeface="Verdana"/>
                  <a:ea typeface="Times New Roman"/>
                </a:rPr>
                <a:t>Alternative futu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3321000" y="4533480"/>
              <a:ext cx="2840760" cy="796680"/>
              <a:chOff x="3321000" y="4533480"/>
              <a:chExt cx="2840760" cy="796680"/>
            </a:xfrm>
          </p:grpSpPr>
          <p:sp>
            <p:nvSpPr>
              <p:cNvPr id="165" name=""/>
              <p:cNvSpPr/>
              <p:nvPr/>
            </p:nvSpPr>
            <p:spPr>
              <a:xfrm rot="10348200">
                <a:off x="3337200" y="4716000"/>
                <a:ext cx="2808360" cy="431640"/>
              </a:xfrm>
              <a:prstGeom prst="rightArrow">
                <a:avLst>
                  <a:gd name="adj1" fmla="val 50000"/>
                  <a:gd name="adj2" fmla="val 162656"/>
                </a:avLst>
              </a:prstGeom>
              <a:solidFill>
                <a:srgbClr val="ff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1094200">
                <a:off x="4271760" y="4710960"/>
                <a:ext cx="1584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What to d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6227640" y="4285800"/>
              <a:ext cx="223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6699"/>
                  </a:solidFill>
                  <a:latin typeface="Verdana"/>
                  <a:ea typeface="Times New Roman"/>
                </a:rPr>
                <a:t>The „best future“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64328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990000"/>
                </a:solidFill>
                <a:latin typeface="Arial"/>
              </a:rPr>
              <a:t>Two basic approaches to Foresight</a:t>
            </a:r>
            <a:endParaRPr b="0" lang="en-US" sz="3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70760" y="6324480"/>
            <a:ext cx="153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Keenan/PR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9:42:42Z</dcterms:created>
  <dc:creator>weberm</dc:creator>
  <dc:description/>
  <dc:language>en-US</dc:language>
  <cp:lastModifiedBy>johnstonr</cp:lastModifiedBy>
  <dcterms:modified xsi:type="dcterms:W3CDTF">2008-09-16T09:40:33Z</dcterms:modified>
  <cp:revision>14</cp:revision>
  <dc:subject/>
  <dc:title>S&amp;T Foresight</dc:title>
</cp:coreProperties>
</file>