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CAF9-0323-475A-9E45-02C9427F5D7F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ology Roadmapping is a planning process that gives decision makers a means to identify, evaluate and select among strategic alternatives for achieving energy requirements for APEC count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EC countries have differing levels of economic development; differing indigenous energy sources; and differing technology priorities for addressing energy secu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chnology Roadmapping exercise, starting in Vancouver, will examine the energy needs of participating APEC countries, and their priorities in terms of energy technologi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ess developed technologies, the roadmap may chart a pathway for those technological improvements to address country demands; for more developed technologies, the issues addressed may be skills requirements; infrastructure needs; or standards/regulations 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echnology Foresighting is an excellent way to stimulate thinking, technology roadmapping provides a framework and a timeline for making that future happen technologicall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he help of professional facilitators, workshop participants will be actively involved in the development of technology roadmaps focused on three rapidly emerging technologies for fuel- hydrogen, unconventional hyrdrocarbons, and biofu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M process consists of three step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et Requirements (demand side) forecast for industry products (5-10 yea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s- determine the implications of the market requirements on the industry products (supply si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ologies- the key/critical technologies which will be required to develop, manufacture and support those products which will satisfy the market 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Ms are not meant to be an extrapolation of existing product and manufacturing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iding principle is that the process and results be driven by marketplace needs in the time period spec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admap should identify the critical enabling technologies to achieve the desired product needs and the gaps that need to be filled by R&amp;D as well as infrastructure and human resource n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cecec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937F-B40D-4D9B-8153-C61C0843F1A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cecec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cecec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cecec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355320"/>
            <a:ext cx="80773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41000" y="1600200"/>
            <a:ext cx="809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1000" y="4028400"/>
            <a:ext cx="809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355320"/>
            <a:ext cx="80773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41000" y="1600200"/>
            <a:ext cx="3949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88200" y="1600200"/>
            <a:ext cx="3949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1000" y="4028400"/>
            <a:ext cx="3949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88200" y="4028400"/>
            <a:ext cx="3949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355320"/>
            <a:ext cx="80773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41000" y="1600200"/>
            <a:ext cx="2605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77360" y="1600200"/>
            <a:ext cx="2605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05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1000" y="4028400"/>
            <a:ext cx="2605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77360" y="4028400"/>
            <a:ext cx="2605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13720" y="4028400"/>
            <a:ext cx="2605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355320"/>
            <a:ext cx="80773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41000" y="1600200"/>
            <a:ext cx="80931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55320"/>
            <a:ext cx="80773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41000" y="1600200"/>
            <a:ext cx="8093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55320"/>
            <a:ext cx="80773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41000" y="1600200"/>
            <a:ext cx="3949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88200" y="1600200"/>
            <a:ext cx="3949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55320"/>
            <a:ext cx="80773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355320"/>
            <a:ext cx="8077320" cy="46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355320"/>
            <a:ext cx="80773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41000" y="1600200"/>
            <a:ext cx="3949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88200" y="1600200"/>
            <a:ext cx="3949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41000" y="4028400"/>
            <a:ext cx="3949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355320"/>
            <a:ext cx="80773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41000" y="1600200"/>
            <a:ext cx="80931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355320"/>
            <a:ext cx="80773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41000" y="1600200"/>
            <a:ext cx="3949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88200" y="1600200"/>
            <a:ext cx="3949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88200" y="4028400"/>
            <a:ext cx="3949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55320"/>
            <a:ext cx="80773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41000" y="1600200"/>
            <a:ext cx="3949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88200" y="1600200"/>
            <a:ext cx="3949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1000" y="4028400"/>
            <a:ext cx="809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355320"/>
            <a:ext cx="80773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41000" y="1600200"/>
            <a:ext cx="809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1000" y="4028400"/>
            <a:ext cx="809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355320"/>
            <a:ext cx="80773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41000" y="1600200"/>
            <a:ext cx="3949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88200" y="1600200"/>
            <a:ext cx="3949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41000" y="4028400"/>
            <a:ext cx="3949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88200" y="4028400"/>
            <a:ext cx="3949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355320"/>
            <a:ext cx="80773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41000" y="1600200"/>
            <a:ext cx="2605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77360" y="1600200"/>
            <a:ext cx="2605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05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41000" y="4028400"/>
            <a:ext cx="2605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77360" y="4028400"/>
            <a:ext cx="2605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13720" y="4028400"/>
            <a:ext cx="2605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355320"/>
            <a:ext cx="80773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41000" y="1600200"/>
            <a:ext cx="8093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355320"/>
            <a:ext cx="80773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41000" y="1600200"/>
            <a:ext cx="3949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88200" y="1600200"/>
            <a:ext cx="3949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355320"/>
            <a:ext cx="80773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6840" y="355320"/>
            <a:ext cx="8077320" cy="46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355320"/>
            <a:ext cx="80773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41000" y="1600200"/>
            <a:ext cx="3949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88200" y="1600200"/>
            <a:ext cx="3949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41000" y="4028400"/>
            <a:ext cx="3949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55320"/>
            <a:ext cx="80773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41000" y="1600200"/>
            <a:ext cx="3949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88200" y="1600200"/>
            <a:ext cx="3949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88200" y="4028400"/>
            <a:ext cx="3949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355320"/>
            <a:ext cx="80773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41000" y="1600200"/>
            <a:ext cx="3949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88200" y="1600200"/>
            <a:ext cx="3949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1000" y="4028400"/>
            <a:ext cx="809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55320"/>
            <a:ext cx="80773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1000" y="1600200"/>
            <a:ext cx="8093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398"/>
              </a:lnSpc>
              <a:spcBef>
                <a:spcPts val="601"/>
              </a:spcBef>
              <a:buClr>
                <a:srgbClr val="666666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2398"/>
              </a:lnSpc>
              <a:spcBef>
                <a:spcPts val="601"/>
              </a:spcBef>
              <a:buClr>
                <a:srgbClr val="66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ts val="23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ts val="23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ts val="23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ts val="23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33080" y="631296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99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90000"/>
                </a:solidFill>
                <a:latin typeface="Arial"/>
                <a:ea typeface="Arial"/>
              </a:rPr>
              <a:t>&lt;footer&gt;</a:t>
            </a:r>
            <a:r>
              <a:rPr b="0" lang="de-AT" sz="1200" spc="-1" strike="noStrike">
                <a:solidFill>
                  <a:srgbClr val="990000"/>
                </a:solidFill>
                <a:latin typeface="Arial"/>
                <a:ea typeface="Arial"/>
              </a:rPr>
              <a:t>©</a:t>
            </a:r>
            <a:r>
              <a:rPr b="0" lang="de-DE" sz="1200" spc="-1" strike="noStrike">
                <a:solidFill>
                  <a:srgbClr val="990000"/>
                </a:solidFill>
                <a:latin typeface="Arial"/>
              </a:rPr>
              <a:t> systems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6308640"/>
            <a:ext cx="8001000" cy="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1478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259092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47560" y="2629080"/>
            <a:ext cx="8025120" cy="215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457200" indent="0" algn="ctr">
              <a:lnSpc>
                <a:spcPts val="19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6666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forlearn.jrc.ec.europa.eu/guide/4_methodology/meth_quanti-quali.htm" TargetMode="External"/><Relationship Id="rId2" Type="http://schemas.openxmlformats.org/officeDocument/2006/relationships/hyperlink" Target="http://forlearn.jrc.ec.europa.eu/guide/4_methodology/meth_explo-norma.htm" TargetMode="External"/><Relationship Id="rId3" Type="http://schemas.openxmlformats.org/officeDocument/2006/relationships/hyperlink" Target="http://forlearn.jrc.ec.europa.eu/guide/4_methodology/meth_quanti-quali.htm" TargetMode="External"/><Relationship Id="rId4" Type="http://schemas.openxmlformats.org/officeDocument/2006/relationships/hyperlink" Target="http://forlearn.jrc.ec.europa.eu/guide/4_methodology/meth_explo-norma.htm" TargetMode="External"/><Relationship Id="rId5" Type="http://schemas.openxmlformats.org/officeDocument/2006/relationships/hyperlink" Target="http://forlearn.jrc.ec.europa.eu/guide/4_methodology/meth_predic-open.htm" TargetMode="External"/><Relationship Id="rId6" Type="http://schemas.openxmlformats.org/officeDocument/2006/relationships/hyperlink" Target="http://forlearn.jrc.ec.europa.eu/guide/4_methodology/meth_environmental-scanning.htm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1478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Role for Science &amp; Technology Foresight in CTBT-ISS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6840" y="3933360"/>
            <a:ext cx="74674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90000"/>
                </a:solidFill>
                <a:latin typeface="Arial"/>
              </a:rPr>
              <a:t>Exploring the next generation verification system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8880" y="4724280"/>
            <a:ext cx="501984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Arial"/>
              </a:rPr>
              <a:t>Matthias Weber and Ron John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Arial"/>
              </a:rPr>
              <a:t>ARC systems research &amp; Australian Centre for Inno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Arial"/>
              </a:rPr>
              <a:t>Vienna, 17 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596960" y="5910120"/>
          <a:ext cx="1895400" cy="56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6960" y="5910120"/>
                    <a:ext cx="189540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724360" y="5869080"/>
            <a:ext cx="100836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775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990000"/>
                </a:solidFill>
                <a:latin typeface="Arial"/>
              </a:rPr>
              <a:t>Application of the foresight methodology</a:t>
            </a:r>
            <a:r>
              <a:rPr b="0" lang="de-AT" sz="3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ing a transparent structured decision-mak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ing a forward-looking attitude – anticipative intellig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oking a creative and motivating decision mak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mulating a participative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ing mutual learning and strategic dial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hing consensus around shared v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technology and innovation to wider socio-economic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ving the way for coordinated/coherent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78680" y="6172200"/>
            <a:ext cx="153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  <a:ea typeface="Times New Roman"/>
              </a:rPr>
              <a:t>Source: Keenan/PR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STRM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is a process tool to help identify the key scientific and technological development that an industry/sector/company/organisation needs to succeed in the future, and the projects/steps required to make these scientific and technological developments available for implementing solu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STRM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are developed by a group of collaborators who are knowledgeable about an industry/sector/research field and its relevant scientific and technological develop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STRM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can be supported by a range of information gathering (e.g. S&amp;T Monitoring, bibliometric analysis, data mining) and intelligence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7960" y="433440"/>
            <a:ext cx="7826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990000"/>
                </a:solidFill>
                <a:latin typeface="Arial"/>
              </a:rPr>
              <a:t>S&amp;T</a:t>
            </a:r>
            <a:r>
              <a:rPr b="0" lang="en-US" sz="3000" spc="-1" strike="noStrike">
                <a:solidFill>
                  <a:srgbClr val="990000"/>
                </a:solidFill>
                <a:latin typeface="Arial"/>
              </a:rPr>
              <a:t> Roadmapping (STRM) as an option for CTBT-ISS?</a:t>
            </a:r>
            <a:br>
              <a:rPr sz="21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 flipH="1" flipV="1">
            <a:off x="1219320" y="5152680"/>
            <a:ext cx="1440" cy="290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82920" y="4848120"/>
            <a:ext cx="0" cy="290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82920" y="4186080"/>
            <a:ext cx="0" cy="290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059280" y="5881680"/>
            <a:ext cx="92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4336920"/>
            <a:ext cx="133344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liers Manufactur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1484280"/>
            <a:ext cx="615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68840" y="1484280"/>
            <a:ext cx="1198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WHAT/H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0080" y="1484280"/>
            <a:ext cx="595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W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819520" y="2243160"/>
            <a:ext cx="3415680" cy="1517760"/>
            <a:chOff x="2819520" y="2243160"/>
            <a:chExt cx="3415680" cy="1517760"/>
          </a:xfrm>
        </p:grpSpPr>
        <p:sp>
          <p:nvSpPr>
            <p:cNvPr id="184" name=""/>
            <p:cNvSpPr/>
            <p:nvPr/>
          </p:nvSpPr>
          <p:spPr>
            <a:xfrm>
              <a:off x="2874960" y="2300400"/>
              <a:ext cx="3360240" cy="14605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19520" y="2243160"/>
              <a:ext cx="3346200" cy="1446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944800" y="2668680"/>
            <a:ext cx="789120" cy="86976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67280" y="2668680"/>
            <a:ext cx="790560" cy="86976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87960" y="2666880"/>
            <a:ext cx="792000" cy="79560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92560" y="4118040"/>
            <a:ext cx="2743200" cy="792000"/>
            <a:chOff x="3292560" y="4118040"/>
            <a:chExt cx="2743200" cy="792000"/>
          </a:xfrm>
        </p:grpSpPr>
        <p:sp>
          <p:nvSpPr>
            <p:cNvPr id="190" name=""/>
            <p:cNvSpPr/>
            <p:nvPr/>
          </p:nvSpPr>
          <p:spPr>
            <a:xfrm>
              <a:off x="3343320" y="4170600"/>
              <a:ext cx="2692440" cy="7394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292560" y="4118040"/>
              <a:ext cx="2676600" cy="722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305160" y="5595840"/>
            <a:ext cx="2654280" cy="666720"/>
            <a:chOff x="3305160" y="5595840"/>
            <a:chExt cx="2654280" cy="666720"/>
          </a:xfrm>
        </p:grpSpPr>
        <p:sp>
          <p:nvSpPr>
            <p:cNvPr id="193" name=""/>
            <p:cNvSpPr/>
            <p:nvPr/>
          </p:nvSpPr>
          <p:spPr>
            <a:xfrm>
              <a:off x="3369960" y="5648040"/>
              <a:ext cx="2589480" cy="6145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305160" y="5595840"/>
              <a:ext cx="2570040" cy="596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3976560" y="1862280"/>
            <a:ext cx="717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ase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052880" y="3800520"/>
            <a:ext cx="760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ase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76920" y="5172120"/>
            <a:ext cx="80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ase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762360" y="3086280"/>
            <a:ext cx="284040" cy="71280"/>
            <a:chOff x="3762360" y="3086280"/>
            <a:chExt cx="284040" cy="71280"/>
          </a:xfrm>
        </p:grpSpPr>
        <p:sp>
          <p:nvSpPr>
            <p:cNvPr id="199" name=""/>
            <p:cNvSpPr/>
            <p:nvPr/>
          </p:nvSpPr>
          <p:spPr>
            <a:xfrm>
              <a:off x="3762360" y="3129120"/>
              <a:ext cx="20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903480" y="3086280"/>
              <a:ext cx="142920" cy="71280"/>
            </a:xfrm>
            <a:custGeom>
              <a:avLst/>
              <a:gdLst/>
              <a:ahLst/>
              <a:rect l="l" t="t" r="r" b="b"/>
              <a:pathLst>
                <a:path w="90" h="45">
                  <a:moveTo>
                    <a:pt x="89" y="23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89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84840" y="3086280"/>
            <a:ext cx="282600" cy="71280"/>
            <a:chOff x="4884840" y="3086280"/>
            <a:chExt cx="282600" cy="71280"/>
          </a:xfrm>
        </p:grpSpPr>
        <p:sp>
          <p:nvSpPr>
            <p:cNvPr id="202" name=""/>
            <p:cNvSpPr/>
            <p:nvPr/>
          </p:nvSpPr>
          <p:spPr>
            <a:xfrm>
              <a:off x="4884840" y="3129120"/>
              <a:ext cx="20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24520" y="3086280"/>
              <a:ext cx="142920" cy="71280"/>
            </a:xfrm>
            <a:custGeom>
              <a:avLst/>
              <a:gdLst/>
              <a:ahLst/>
              <a:rect l="l" t="t" r="r" b="b"/>
              <a:pathLst>
                <a:path w="90" h="45">
                  <a:moveTo>
                    <a:pt x="89" y="23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89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7010280" y="2181240"/>
            <a:ext cx="1752840" cy="402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10280" y="2166840"/>
            <a:ext cx="1828800" cy="41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ied market dem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ied critical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ed R&amp;D inves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market and investment r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ner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d competitive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ce on government  policy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ams and reg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no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knowle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vity 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ied human resource and skills g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42760" y="1819440"/>
            <a:ext cx="1656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cipated Benef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200" y="1819440"/>
            <a:ext cx="1760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ustry -led Initi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5554800" y="1957320"/>
            <a:ext cx="0" cy="84240"/>
            <a:chOff x="5554800" y="1957320"/>
            <a:chExt cx="0" cy="84240"/>
          </a:xfrm>
        </p:grpSpPr>
        <p:sp>
          <p:nvSpPr>
            <p:cNvPr id="209" name=""/>
            <p:cNvSpPr/>
            <p:nvPr/>
          </p:nvSpPr>
          <p:spPr>
            <a:xfrm>
              <a:off x="5554800" y="195732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554800" y="203364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265560" y="2490840"/>
            <a:ext cx="77760" cy="133200"/>
            <a:chOff x="3265560" y="2490840"/>
            <a:chExt cx="77760" cy="133200"/>
          </a:xfrm>
        </p:grpSpPr>
        <p:sp>
          <p:nvSpPr>
            <p:cNvPr id="212" name=""/>
            <p:cNvSpPr/>
            <p:nvPr/>
          </p:nvSpPr>
          <p:spPr>
            <a:xfrm>
              <a:off x="3308400" y="2533680"/>
              <a:ext cx="0" cy="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08400" y="260964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65560" y="2490840"/>
              <a:ext cx="77760" cy="133200"/>
            </a:xfrm>
            <a:custGeom>
              <a:avLst/>
              <a:gdLst/>
              <a:ahLst/>
              <a:rect l="l" t="t" r="r" b="b"/>
              <a:pathLst>
                <a:path w="49" h="84">
                  <a:moveTo>
                    <a:pt x="24" y="83"/>
                  </a:moveTo>
                  <a:lnTo>
                    <a:pt x="48" y="0"/>
                  </a:lnTo>
                  <a:lnTo>
                    <a:pt x="0" y="0"/>
                  </a:lnTo>
                  <a:lnTo>
                    <a:pt x="24" y="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325680" y="2548080"/>
            <a:ext cx="2228760" cy="0"/>
            <a:chOff x="3325680" y="2548080"/>
            <a:chExt cx="2228760" cy="0"/>
          </a:xfrm>
        </p:grpSpPr>
        <p:sp>
          <p:nvSpPr>
            <p:cNvPr id="216" name=""/>
            <p:cNvSpPr/>
            <p:nvPr/>
          </p:nvSpPr>
          <p:spPr>
            <a:xfrm>
              <a:off x="3325680" y="2548080"/>
              <a:ext cx="111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409920" y="2548080"/>
              <a:ext cx="9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90920" y="254808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4800" y="2548080"/>
              <a:ext cx="111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59040" y="2548080"/>
              <a:ext cx="111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41480" y="2548080"/>
              <a:ext cx="97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24280" y="2548080"/>
              <a:ext cx="108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908160" y="2548080"/>
              <a:ext cx="111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90960" y="2548080"/>
              <a:ext cx="9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74840" y="2548080"/>
              <a:ext cx="97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55840" y="254808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240080" y="2548080"/>
              <a:ext cx="111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324320" y="2548080"/>
              <a:ext cx="9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05320" y="254808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89200" y="2548080"/>
              <a:ext cx="111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73440" y="2548080"/>
              <a:ext cx="111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655880" y="2548080"/>
              <a:ext cx="97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40120" y="2548080"/>
              <a:ext cx="9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22560" y="2548080"/>
              <a:ext cx="111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905360" y="2548080"/>
              <a:ext cx="108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989240" y="2548080"/>
              <a:ext cx="97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73480" y="2548080"/>
              <a:ext cx="97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54480" y="2548080"/>
              <a:ext cx="111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38720" y="2548080"/>
              <a:ext cx="111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321160" y="2548080"/>
              <a:ext cx="111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03600" y="2548080"/>
              <a:ext cx="111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487840" y="2548080"/>
              <a:ext cx="111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554440" y="25480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3748680" y="2352600"/>
            <a:ext cx="1429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eriodic it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2243160"/>
            <a:ext cx="1752840" cy="1549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ilitated by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y Canada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tential Facilitator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Other Departments, Research Organizations, Associations or Consul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30360" y="5556240"/>
            <a:ext cx="1139760" cy="636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ademia and Research Organ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8861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easi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038480" y="28861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81480" y="2886120"/>
            <a:ext cx="911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94000" y="4227480"/>
            <a:ext cx="2739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ons to develop, commercialize and transfe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94000" y="5675400"/>
            <a:ext cx="2664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iodic evaluation, re-thinking, and cultural ad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82920" y="3552840"/>
            <a:ext cx="0" cy="290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00240" y="4010040"/>
            <a:ext cx="0" cy="290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81080" y="4376880"/>
            <a:ext cx="762120" cy="533160"/>
          </a:xfrm>
          <a:prstGeom prst="rightArrow">
            <a:avLst>
              <a:gd name="adj1" fmla="val 50000"/>
              <a:gd name="adj2" fmla="val 35736"/>
            </a:avLst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248520" y="4300560"/>
            <a:ext cx="685800" cy="533520"/>
          </a:xfrm>
          <a:prstGeom prst="rightArrow">
            <a:avLst>
              <a:gd name="adj1" fmla="val 50000"/>
              <a:gd name="adj2" fmla="val 32136"/>
            </a:avLst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74368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Arial"/>
              </a:rPr>
              <a:t>A </a:t>
            </a:r>
            <a:r>
              <a:rPr b="0" lang="en-CA" sz="3000" spc="-1" strike="noStrike">
                <a:solidFill>
                  <a:srgbClr val="990000"/>
                </a:solidFill>
                <a:latin typeface="Arial"/>
              </a:rPr>
              <a:t>Canadian experience with STRM</a:t>
            </a: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3063960" y="3679560"/>
            <a:ext cx="0" cy="2220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153360" y="1484280"/>
            <a:ext cx="8678520" cy="4785480"/>
            <a:chOff x="153360" y="1484280"/>
            <a:chExt cx="8678520" cy="4785480"/>
          </a:xfrm>
        </p:grpSpPr>
        <p:sp>
          <p:nvSpPr>
            <p:cNvPr id="259" name=""/>
            <p:cNvSpPr/>
            <p:nvPr/>
          </p:nvSpPr>
          <p:spPr>
            <a:xfrm>
              <a:off x="3013200" y="1933560"/>
              <a:ext cx="4643280" cy="421308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13200" y="2205000"/>
              <a:ext cx="464004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013200" y="2484360"/>
              <a:ext cx="464004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013200" y="2757600"/>
              <a:ext cx="464004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006720" y="3313080"/>
              <a:ext cx="464184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006720" y="3552840"/>
              <a:ext cx="464184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06720" y="3816360"/>
              <a:ext cx="464184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006720" y="4076640"/>
              <a:ext cx="464184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09960" y="4564080"/>
              <a:ext cx="464004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009960" y="4803840"/>
              <a:ext cx="464004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09960" y="5067360"/>
              <a:ext cx="464004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009960" y="5329080"/>
              <a:ext cx="464004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013200" y="5851440"/>
              <a:ext cx="464004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013200" y="6148440"/>
              <a:ext cx="464004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746840" y="1581120"/>
              <a:ext cx="493920" cy="401760"/>
            </a:xfrm>
            <a:prstGeom prst="rightArrow">
              <a:avLst>
                <a:gd name="adj1" fmla="val 58278"/>
                <a:gd name="adj2" fmla="val 28538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91880" y="2028960"/>
              <a:ext cx="27990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Market / Customers / Competitors 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Environment  / Industry 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Business / Trends / Drivers / Threats 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Objectives / Milestones / Strate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88640" y="3144960"/>
              <a:ext cx="28216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Products / Services / Applications 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Services / Capabilities / Performance 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Features / Components / Families 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Processes / Systems / Platforms 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Opportunities / Requirements / Risk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791720" y="4565520"/>
              <a:ext cx="1220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Technology 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Competences 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Knowled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3360" y="5384880"/>
              <a:ext cx="2858400" cy="88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Other resources: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Skills / Partnerships / Suppliers 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Facilities / Infrastructure / Organisation 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Standards / Science / Finance / R&amp;D Projec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3013200" y="3044880"/>
              <a:ext cx="4643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3013200" y="4349880"/>
              <a:ext cx="4643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341520" y="4586400"/>
              <a:ext cx="1306800" cy="2044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44800" y="3328920"/>
              <a:ext cx="1301760" cy="2001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78160" y="4835520"/>
              <a:ext cx="1300320" cy="201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013360" y="5092560"/>
              <a:ext cx="1301760" cy="208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813200" y="3841560"/>
              <a:ext cx="1298520" cy="2048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780160" y="4829040"/>
              <a:ext cx="1298520" cy="206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662440" y="3328920"/>
              <a:ext cx="1297080" cy="2048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4476600" y="3525840"/>
              <a:ext cx="0" cy="10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5380200" y="4052880"/>
              <a:ext cx="0" cy="78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6846840" y="3532320"/>
              <a:ext cx="0" cy="12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149800" y="3438360"/>
              <a:ext cx="50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83160" y="493704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48320" y="4575240"/>
              <a:ext cx="104760" cy="242640"/>
            </a:xfrm>
            <a:custGeom>
              <a:avLst/>
              <a:gdLst/>
              <a:ahLst/>
              <a:rect l="l" t="t" r="r" b="b"/>
              <a:pathLst>
                <a:path w="52" h="113">
                  <a:moveTo>
                    <a:pt x="0" y="0"/>
                  </a:moveTo>
                  <a:lnTo>
                    <a:pt x="52" y="0"/>
                  </a:lnTo>
                  <a:lnTo>
                    <a:pt x="52" y="113"/>
                  </a:lnTo>
                </a:path>
              </a:pathLst>
            </a:custGeom>
            <a:solidFill>
              <a:srgbClr val="e0e0e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941720" y="353520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203800" y="5037120"/>
              <a:ext cx="0" cy="5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6199200" y="5037120"/>
              <a:ext cx="0" cy="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907320" y="2441520"/>
              <a:ext cx="0" cy="89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33880" y="2743200"/>
              <a:ext cx="0" cy="57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3013200" y="5554800"/>
              <a:ext cx="4643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533760" y="5902200"/>
              <a:ext cx="1311120" cy="201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138640" y="5594400"/>
              <a:ext cx="581040" cy="2048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010200" y="5902200"/>
              <a:ext cx="728640" cy="201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844880" y="5689440"/>
              <a:ext cx="293760" cy="3114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lnTo>
                    <a:pt x="48" y="96"/>
                  </a:lnTo>
                  <a:lnTo>
                    <a:pt x="48" y="0"/>
                  </a:lnTo>
                  <a:lnTo>
                    <a:pt x="9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3708360" y="4788000"/>
              <a:ext cx="0" cy="111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6492960" y="5021280"/>
              <a:ext cx="0" cy="87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5583240" y="5299200"/>
              <a:ext cx="0" cy="2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983120" y="5999040"/>
              <a:ext cx="102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697160" y="1484280"/>
              <a:ext cx="1134720" cy="41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 Narrow"/>
                </a:rPr>
                <a:t>(know-whe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‘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purpose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 Narrow"/>
                </a:rPr>
                <a:t>(know-wh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‘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delivery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 Narrow"/>
                </a:rPr>
                <a:t>(know-wha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‘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resources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 Narrow"/>
                </a:rPr>
                <a:t>(know-how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994120" y="1609560"/>
              <a:ext cx="53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Pa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795840" y="1604880"/>
              <a:ext cx="53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N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548960" y="1604880"/>
              <a:ext cx="62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Pla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08400" y="160488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Fu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004880" y="1604880"/>
              <a:ext cx="68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V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413160" y="2529000"/>
              <a:ext cx="2320920" cy="1951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805360" y="2246400"/>
              <a:ext cx="1301760" cy="1998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913280" y="2494080"/>
              <a:ext cx="246240" cy="247320"/>
            </a:xfrm>
            <a:prstGeom prst="diamond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777000" y="2219400"/>
              <a:ext cx="244440" cy="247680"/>
            </a:xfrm>
            <a:prstGeom prst="diamond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18780000">
              <a:off x="5295960" y="2806200"/>
              <a:ext cx="1957320" cy="515880"/>
            </a:xfrm>
            <a:prstGeom prst="rightArrow">
              <a:avLst>
                <a:gd name="adj1" fmla="val 68593"/>
                <a:gd name="adj2" fmla="val 91814"/>
              </a:avLst>
            </a:prstGeom>
            <a:solidFill>
              <a:srgbClr val="ffffff"/>
            </a:solidFill>
            <a:ln w="19080">
              <a:solidFill>
                <a:srgbClr val="1618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161883"/>
                  </a:solidFill>
                  <a:latin typeface="Times New Roman"/>
                </a:rPr>
                <a:t>Market Pu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8780000">
              <a:off x="3604320" y="4431240"/>
              <a:ext cx="2479680" cy="554040"/>
            </a:xfrm>
            <a:prstGeom prst="rightArrow">
              <a:avLst>
                <a:gd name="adj1" fmla="val 68593"/>
                <a:gd name="adj2" fmla="val 108306"/>
              </a:avLst>
            </a:prstGeom>
            <a:solidFill>
              <a:srgbClr val="ffffff"/>
            </a:solidFill>
            <a:ln w="19080">
              <a:solidFill>
                <a:srgbClr val="1618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161883"/>
                  </a:solidFill>
                  <a:latin typeface="Times New Roman"/>
                </a:rPr>
                <a:t>Technology pus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54320" y="1974960"/>
              <a:ext cx="727200" cy="203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405560" y="1795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 Narrow"/>
              </a:rPr>
              <a:t>Layers connec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55320"/>
            <a:ext cx="80773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990000"/>
                </a:solidFill>
                <a:latin typeface="Arial"/>
              </a:rPr>
              <a:t>Generic roadmap – </a:t>
            </a:r>
            <a:br>
              <a:rPr sz="3000"/>
            </a:br>
            <a:r>
              <a:rPr b="0" lang="en-GB" sz="3000" spc="-1" strike="noStrike">
                <a:solidFill>
                  <a:srgbClr val="990000"/>
                </a:solidFill>
                <a:latin typeface="Arial"/>
              </a:rPr>
              <a:t>links resources to objectives</a:t>
            </a: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8420760" y="5832360"/>
            <a:ext cx="3970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45960" y="239760"/>
            <a:ext cx="8763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Arial"/>
              </a:rPr>
              <a:t>Roadmap for Electronic De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20760" y="909360"/>
            <a:ext cx="8289360" cy="5332680"/>
            <a:chOff x="320760" y="909360"/>
            <a:chExt cx="8289360" cy="5332680"/>
          </a:xfrm>
        </p:grpSpPr>
        <p:grpSp>
          <p:nvGrpSpPr>
            <p:cNvPr id="325" name=""/>
            <p:cNvGrpSpPr/>
            <p:nvPr/>
          </p:nvGrpSpPr>
          <p:grpSpPr>
            <a:xfrm>
              <a:off x="1070640" y="1380240"/>
              <a:ext cx="7539480" cy="4267800"/>
              <a:chOff x="1070640" y="1380240"/>
              <a:chExt cx="7539480" cy="4267800"/>
            </a:xfrm>
          </p:grpSpPr>
          <p:sp>
            <p:nvSpPr>
              <p:cNvPr id="326" name=""/>
              <p:cNvSpPr/>
              <p:nvPr/>
            </p:nvSpPr>
            <p:spPr>
              <a:xfrm>
                <a:off x="1070640" y="4581000"/>
                <a:ext cx="753948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070640" y="2446920"/>
                <a:ext cx="753948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070640" y="3513960"/>
                <a:ext cx="753948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070640" y="4047480"/>
                <a:ext cx="753948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070640" y="5114520"/>
                <a:ext cx="753948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0640" y="2980440"/>
                <a:ext cx="753948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070640" y="1913400"/>
                <a:ext cx="753948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2955600" y="5574240"/>
                <a:ext cx="0" cy="7308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>
                <a:off x="6725160" y="5574240"/>
                <a:ext cx="0" cy="7308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V="1">
                <a:off x="4840200" y="5574240"/>
                <a:ext cx="0" cy="7308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070640" y="1380240"/>
                <a:ext cx="7539480" cy="4267800"/>
              </a:xfrm>
              <a:prstGeom prst="rect">
                <a:avLst/>
              </a:pr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916200" y="5659200"/>
              <a:ext cx="3438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784960" y="5659200"/>
              <a:ext cx="3438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648680" y="5659200"/>
              <a:ext cx="3970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43320" y="5426280"/>
              <a:ext cx="3438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43320" y="4962960"/>
              <a:ext cx="3438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43320" y="4427280"/>
              <a:ext cx="3438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43320" y="3895200"/>
              <a:ext cx="3438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20760" y="909360"/>
              <a:ext cx="3449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umber of chip com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864600" y="5967360"/>
              <a:ext cx="2702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eature size (micr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45400" y="3367440"/>
              <a:ext cx="4338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45400" y="2833560"/>
              <a:ext cx="4338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45400" y="1298520"/>
              <a:ext cx="4338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45400" y="2301480"/>
              <a:ext cx="4338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45400" y="1767960"/>
              <a:ext cx="4338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534720" y="5659200"/>
              <a:ext cx="3970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070640" y="4052520"/>
              <a:ext cx="2820960" cy="1595520"/>
            </a:xfrm>
            <a:custGeom>
              <a:avLst/>
              <a:gdLst/>
              <a:ahLst/>
              <a:rect l="l" t="t" r="r" b="b"/>
              <a:pathLst>
                <a:path w="1814" h="1041">
                  <a:moveTo>
                    <a:pt x="0" y="1041"/>
                  </a:moveTo>
                  <a:lnTo>
                    <a:pt x="1814" y="0"/>
                  </a:lnTo>
                </a:path>
              </a:pathLst>
            </a:custGeom>
            <a:noFill/>
            <a:ln w="7632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891600" y="3224520"/>
              <a:ext cx="1460160" cy="828000"/>
            </a:xfrm>
            <a:custGeom>
              <a:avLst/>
              <a:gdLst/>
              <a:ahLst/>
              <a:rect l="l" t="t" r="r" b="b"/>
              <a:pathLst>
                <a:path w="939" h="540">
                  <a:moveTo>
                    <a:pt x="0" y="540"/>
                  </a:moveTo>
                  <a:lnTo>
                    <a:pt x="939" y="0"/>
                  </a:lnTo>
                </a:path>
              </a:pathLst>
            </a:custGeom>
            <a:noFill/>
            <a:ln w="7632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5350680" y="1386360"/>
              <a:ext cx="0" cy="4265280"/>
            </a:xfrm>
            <a:prstGeom prst="line">
              <a:avLst/>
            </a:prstGeom>
            <a:ln w="2844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371320" y="1502640"/>
              <a:ext cx="165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lassical 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048320" y="4045320"/>
              <a:ext cx="174096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Arial"/>
                </a:rPr>
                <a:t>Historical Tre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940840" y="3120840"/>
              <a:ext cx="14868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66"/>
                  </a:solidFill>
                  <a:latin typeface="Arial"/>
                </a:rPr>
                <a:t>SIA Roadm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4892040" y="2982600"/>
              <a:ext cx="506520" cy="472680"/>
              <a:chOff x="4892040" y="2982600"/>
              <a:chExt cx="506520" cy="472680"/>
            </a:xfrm>
          </p:grpSpPr>
          <p:sp>
            <p:nvSpPr>
              <p:cNvPr id="359" name=""/>
              <p:cNvSpPr/>
              <p:nvPr/>
            </p:nvSpPr>
            <p:spPr>
              <a:xfrm>
                <a:off x="4892040" y="2982600"/>
                <a:ext cx="506520" cy="24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01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034600" y="3234600"/>
                <a:ext cx="223560" cy="22068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5e4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4222080" y="4176360"/>
              <a:ext cx="764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M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3640680" y="3686400"/>
              <a:ext cx="506520" cy="472680"/>
              <a:chOff x="3640680" y="3686400"/>
              <a:chExt cx="506520" cy="472680"/>
            </a:xfrm>
          </p:grpSpPr>
          <p:sp>
            <p:nvSpPr>
              <p:cNvPr id="363" name=""/>
              <p:cNvSpPr/>
              <p:nvPr/>
            </p:nvSpPr>
            <p:spPr>
              <a:xfrm>
                <a:off x="3640680" y="3686400"/>
                <a:ext cx="506520" cy="24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99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782880" y="3938400"/>
                <a:ext cx="223560" cy="22068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5e4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4056840" y="3449880"/>
              <a:ext cx="506520" cy="471600"/>
              <a:chOff x="4056840" y="3449880"/>
              <a:chExt cx="506520" cy="471600"/>
            </a:xfrm>
          </p:grpSpPr>
          <p:sp>
            <p:nvSpPr>
              <p:cNvPr id="366" name=""/>
              <p:cNvSpPr/>
              <p:nvPr/>
            </p:nvSpPr>
            <p:spPr>
              <a:xfrm>
                <a:off x="4056840" y="3449880"/>
                <a:ext cx="506520" cy="24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199400" y="3700800"/>
                <a:ext cx="223560" cy="22068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5e4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4474080" y="3216600"/>
              <a:ext cx="506520" cy="471960"/>
              <a:chOff x="4474080" y="3216600"/>
              <a:chExt cx="506520" cy="471960"/>
            </a:xfrm>
          </p:grpSpPr>
          <p:sp>
            <p:nvSpPr>
              <p:cNvPr id="369" name=""/>
              <p:cNvSpPr/>
              <p:nvPr/>
            </p:nvSpPr>
            <p:spPr>
              <a:xfrm>
                <a:off x="4474080" y="3216600"/>
                <a:ext cx="506520" cy="24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00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616280" y="3467880"/>
                <a:ext cx="223560" cy="22068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5e4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1104120" y="5121720"/>
              <a:ext cx="506520" cy="472680"/>
              <a:chOff x="1104120" y="5121720"/>
              <a:chExt cx="506520" cy="472680"/>
            </a:xfrm>
          </p:grpSpPr>
          <p:sp>
            <p:nvSpPr>
              <p:cNvPr id="372" name=""/>
              <p:cNvSpPr/>
              <p:nvPr/>
            </p:nvSpPr>
            <p:spPr>
              <a:xfrm>
                <a:off x="1104120" y="5121720"/>
                <a:ext cx="506520" cy="24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97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245960" y="5373720"/>
                <a:ext cx="223560" cy="220680"/>
              </a:xfrm>
              <a:prstGeom prst="ellipse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175e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1924200" y="4656600"/>
              <a:ext cx="506520" cy="471600"/>
              <a:chOff x="1924200" y="4656600"/>
              <a:chExt cx="506520" cy="471600"/>
            </a:xfrm>
          </p:grpSpPr>
          <p:sp>
            <p:nvSpPr>
              <p:cNvPr id="375" name=""/>
              <p:cNvSpPr/>
              <p:nvPr/>
            </p:nvSpPr>
            <p:spPr>
              <a:xfrm>
                <a:off x="1924200" y="4656600"/>
                <a:ext cx="506520" cy="24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98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067120" y="4907520"/>
                <a:ext cx="223560" cy="220680"/>
              </a:xfrm>
              <a:prstGeom prst="ellipse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175e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2707200" y="4214880"/>
              <a:ext cx="506520" cy="471600"/>
              <a:chOff x="2707200" y="4214880"/>
              <a:chExt cx="506520" cy="471600"/>
            </a:xfrm>
          </p:grpSpPr>
          <p:sp>
            <p:nvSpPr>
              <p:cNvPr id="378" name=""/>
              <p:cNvSpPr/>
              <p:nvPr/>
            </p:nvSpPr>
            <p:spPr>
              <a:xfrm>
                <a:off x="2707200" y="4214880"/>
                <a:ext cx="506520" cy="24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99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849400" y="4465800"/>
                <a:ext cx="223560" cy="220680"/>
              </a:xfrm>
              <a:prstGeom prst="ellipse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175e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1070640" y="1380240"/>
              <a:ext cx="7539480" cy="42678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352120" y="1380240"/>
              <a:ext cx="3258000" cy="1843920"/>
            </a:xfrm>
            <a:custGeom>
              <a:avLst/>
              <a:gdLst/>
              <a:ahLst/>
              <a:rect l="l" t="t" r="r" b="b"/>
              <a:pathLst>
                <a:path w="2095" h="1203">
                  <a:moveTo>
                    <a:pt x="0" y="1203"/>
                  </a:moveTo>
                  <a:lnTo>
                    <a:pt x="2095" y="0"/>
                  </a:lnTo>
                </a:path>
              </a:pathLst>
            </a:custGeom>
            <a:noFill/>
            <a:ln w="7632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5364360" y="2707560"/>
              <a:ext cx="399960" cy="513720"/>
              <a:chOff x="5364360" y="2707560"/>
              <a:chExt cx="399960" cy="513720"/>
            </a:xfrm>
          </p:grpSpPr>
          <p:sp>
            <p:nvSpPr>
              <p:cNvPr id="383" name=""/>
              <p:cNvSpPr/>
              <p:nvPr/>
            </p:nvSpPr>
            <p:spPr>
              <a:xfrm>
                <a:off x="5364360" y="2707560"/>
                <a:ext cx="399960" cy="32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1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453280" y="3000600"/>
                <a:ext cx="223920" cy="2206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5e5e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6134760" y="1502640"/>
              <a:ext cx="1669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uantum 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6145560" y="2230200"/>
              <a:ext cx="526680" cy="513720"/>
              <a:chOff x="6145560" y="2230200"/>
              <a:chExt cx="526680" cy="513720"/>
            </a:xfrm>
          </p:grpSpPr>
          <p:sp>
            <p:nvSpPr>
              <p:cNvPr id="387" name=""/>
              <p:cNvSpPr/>
              <p:nvPr/>
            </p:nvSpPr>
            <p:spPr>
              <a:xfrm>
                <a:off x="6145560" y="2230200"/>
                <a:ext cx="526680" cy="32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77</a:t>
                </a:r>
                <a:r>
                  <a:rPr b="1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297480" y="2523240"/>
                <a:ext cx="223560" cy="2206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5e5e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7890120" y="1216080"/>
              <a:ext cx="653040" cy="513000"/>
              <a:chOff x="7890120" y="1216080"/>
              <a:chExt cx="653040" cy="513000"/>
            </a:xfrm>
          </p:grpSpPr>
          <p:sp>
            <p:nvSpPr>
              <p:cNvPr id="390" name=""/>
              <p:cNvSpPr/>
              <p:nvPr/>
            </p:nvSpPr>
            <p:spPr>
              <a:xfrm>
                <a:off x="7890120" y="1216080"/>
                <a:ext cx="653040" cy="32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95</a:t>
                </a:r>
                <a:r>
                  <a:rPr b="1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8107560" y="1508400"/>
                <a:ext cx="223560" cy="2206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5e5e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5881680" y="3103200"/>
              <a:ext cx="270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uantum State Swit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7453440" y="6093000"/>
            <a:ext cx="118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Fine, M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64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Arial"/>
              </a:rPr>
              <a:t>Nanotechnology Roadmap – lessons learned:</a:t>
            </a:r>
            <a:br>
              <a:rPr sz="3000"/>
            </a:br>
            <a:r>
              <a:rPr b="0" lang="en-US" sz="3000" spc="-1" strike="noStrike">
                <a:solidFill>
                  <a:srgbClr val="990000"/>
                </a:solidFill>
                <a:latin typeface="Arial"/>
              </a:rPr>
              <a:t>Atomically Precise Technology (APT)</a:t>
            </a: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ic precision is the guiding vision for nanotechnolo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d for Moore's law progress in 15 year time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d for optimal materials and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forms have sharply restricted capab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s will enable expanding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T development requires focused cross-disciplinary research to develop a body of engineering knowledge for systematic design and improvement of AP nano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219640" y="5851440"/>
            <a:ext cx="340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Foresight Nanotech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775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Arial"/>
              </a:rPr>
              <a:t>Nanotechnology roadmap – lessons learned:</a:t>
            </a:r>
            <a:br>
              <a:rPr sz="3000"/>
            </a:br>
            <a:r>
              <a:rPr b="0" lang="en-US" sz="3000" spc="-1" strike="noStrike">
                <a:solidFill>
                  <a:srgbClr val="990000"/>
                </a:solidFill>
                <a:latin typeface="Arial"/>
              </a:rPr>
              <a:t>Atomically Precise Manufacturing (APM)</a:t>
            </a: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tial feature: programmable control of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d for engineering and fabricating complex AP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ning probe devices: APM on metals, semicondu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molecular machines: APM of polymer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assembly: large AP products from smaller 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-term APM promises a growing range of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d APM promises revolutionary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355320"/>
            <a:ext cx="80773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990000"/>
                </a:solidFill>
                <a:latin typeface="Arial"/>
              </a:rPr>
              <a:t>Issues for a CTBT-ISS S&amp;T Foresight initiative </a:t>
            </a: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41000" y="1600200"/>
            <a:ext cx="8093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tablishing the scope and the issue/s to be addr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666666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66666"/>
                </a:solidFill>
                <a:latin typeface="Arial"/>
              </a:rPr>
              <a:t>In need of a scenario-based approach ?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fining the time horiz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666666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66666"/>
                </a:solidFill>
                <a:latin typeface="Arial"/>
              </a:rPr>
              <a:t>Crucial balance between policy relevance and exploratory character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signing an appropriate foresigh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666666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66666"/>
                </a:solidFill>
                <a:latin typeface="Arial"/>
              </a:rPr>
              <a:t>Definition of the range of stakeholders to engage, and of the approaches to achieve it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lecting the appropriate foresigh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666666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66666"/>
                </a:solidFill>
                <a:latin typeface="Arial"/>
              </a:rPr>
              <a:t>Drawing on the foresight „toolbox“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suring adequate particip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666666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66666"/>
                </a:solidFill>
                <a:latin typeface="Arial"/>
              </a:rPr>
              <a:t>Mobilising the relevant communities is challenging!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343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355320"/>
            <a:ext cx="80773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990000"/>
                </a:solidFill>
                <a:latin typeface="Arial"/>
              </a:rPr>
              <a:t>Issues for a CTBT-ISS S&amp;T Foresight initiative </a:t>
            </a: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41000" y="1600200"/>
            <a:ext cx="8093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priate guidance and facil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666666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66666"/>
                </a:solidFill>
                <a:latin typeface="Arial"/>
              </a:rPr>
              <a:t>Professional support is essential for success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gular updating and integration in CTBT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666666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66666"/>
                </a:solidFill>
                <a:latin typeface="Arial"/>
              </a:rPr>
              <a:t>Not just a one-off exercise, but part of a wider learning process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343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355320"/>
            <a:ext cx="80773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41000" y="1600200"/>
            <a:ext cx="8093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355320"/>
            <a:ext cx="80773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990000"/>
                </a:solidFill>
                <a:latin typeface="Arial"/>
              </a:rPr>
              <a:t>Overview</a:t>
            </a: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41000" y="1600200"/>
            <a:ext cx="8093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context for a CTBT-ISS S&amp;T Foresight 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landscape of S&amp;T Foresight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eriences with S&amp;T Road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ey issues for a CTBT-ISS S&amp;T Foresight 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55320"/>
            <a:ext cx="80773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Arial"/>
              </a:rPr>
              <a:t>The global context for CTBT-ISS</a:t>
            </a: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1000" y="1600200"/>
            <a:ext cx="8093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political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666666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E.g. new entrants/exits to the “nuclear club”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agreements and reg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666666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E.g. early detection of nuclear disasters 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in perception of r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666666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E.g. greater focus on climate change and natural disasters 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press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666666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E.g. budget cuts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fic adv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666666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E.g. infrasound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ical adv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666666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E.g. IT-based communication and computation advances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355320"/>
            <a:ext cx="80773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990000"/>
                </a:solidFill>
                <a:latin typeface="Arial"/>
              </a:rPr>
              <a:t>The local context for a CTBTO S&amp;T Foresight</a:t>
            </a: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1000" y="1600200"/>
            <a:ext cx="8093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hift from building up a verification system to operating, maintaining and upgrading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merging needs and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666666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66666"/>
                </a:solidFill>
                <a:latin typeface="Arial"/>
              </a:rPr>
              <a:t>Assess appropriateness of the existing system to meet its future tasks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666666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66666"/>
                </a:solidFill>
                <a:latin typeface="Arial"/>
              </a:rPr>
              <a:t>Continuous monitoring of emerging S&amp;T opportunities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666666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66666"/>
                </a:solidFill>
                <a:latin typeface="Arial"/>
              </a:rPr>
              <a:t>Consensus-building on the introduction of novel elements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666666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66666"/>
                </a:solidFill>
                <a:latin typeface="Arial"/>
              </a:rPr>
              <a:t>Integration into the existing system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666666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66666"/>
                </a:solidFill>
                <a:latin typeface="Arial"/>
              </a:rPr>
              <a:t>Spill-over potential into other problem areas (e.g. natural disasters)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6868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990000"/>
                </a:solidFill>
                <a:latin typeface="Arial"/>
              </a:rPr>
              <a:t>The local context for a CTBTO S&amp;T Foresight (2) </a:t>
            </a: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1000" y="1600200"/>
            <a:ext cx="8093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ree stakeholder communities to cons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666666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66666"/>
                </a:solidFill>
                <a:latin typeface="Arial"/>
              </a:rPr>
              <a:t>Preparatory Comission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666666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66666"/>
                </a:solidFill>
                <a:latin typeface="Arial"/>
              </a:rPr>
              <a:t>CTBT-ISS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666666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66666"/>
                </a:solidFill>
                <a:latin typeface="Arial"/>
              </a:rPr>
              <a:t>Scientific communities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43040" indent="0">
              <a:lnSpc>
                <a:spcPts val="1998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343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&amp;T Foresight as a process-based instrument to deal with emerging needs and opportunities in interaction with stakeholder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ts val="1998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87520" y="3246480"/>
            <a:ext cx="215640" cy="358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990000"/>
                </a:solidFill>
                <a:latin typeface="Arial"/>
              </a:rPr>
              <a:t>Forecasting – Foresight – Planning</a:t>
            </a:r>
            <a:br>
              <a:rPr sz="3000"/>
            </a:br>
            <a:r>
              <a:rPr b="0" lang="en-GB" sz="3000" spc="-1" strike="noStrike">
                <a:solidFill>
                  <a:srgbClr val="990000"/>
                </a:solidFill>
                <a:latin typeface="Arial"/>
              </a:rPr>
              <a:t>What is the difference?</a:t>
            </a: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Forecast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upposes that there is one possible future, based on extrapolation or projections of past and present trends. Involves only experts. Time horizons commonly 5-10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Foresigh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ssume that there are many futures, and through the mobilisation of interested stakeholders it is feasible to develop a fuller understanding of the forces shaping the long-term future. It uses time horizons of 10-20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Plann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based on theories or doctrines on future developments. Involves only policy makers and experts. Time horizons between 1-5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rot="5397000">
            <a:off x="2195640" y="-638640"/>
            <a:ext cx="4800600" cy="9094680"/>
          </a:xfrm>
          <a:custGeom>
            <a:avLst/>
            <a:gdLst>
              <a:gd name="textAreaLeft" fmla="*/ 1140480 w 4800600"/>
              <a:gd name="textAreaRight" fmla="*/ 3660120 w 4800600"/>
              <a:gd name="textAreaTop" fmla="*/ 2160720 h 9094680"/>
              <a:gd name="textAreaBottom" fmla="*/ 6933960 h 909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512" y="21600"/>
                </a:lnTo>
                <a:lnTo>
                  <a:pt x="6088" y="21600"/>
                </a:lnTo>
                <a:close/>
              </a:path>
            </a:pathLst>
          </a:custGeom>
          <a:gradFill rotWithShape="0">
            <a:gsLst>
              <a:gs pos="0">
                <a:srgbClr val="fef5f1"/>
              </a:gs>
              <a:gs pos="100000">
                <a:srgbClr val="ff99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6280" y="2351160"/>
            <a:ext cx="1566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240" rIns="48240" tIns="24120" bIns="24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trategic Mark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d Trend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84800" y="5316480"/>
            <a:ext cx="16945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240" rIns="48240" tIns="24120" bIns="24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echnology Fores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e.g. Delphi-Studie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chnology Monitor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57680" y="4379760"/>
            <a:ext cx="215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240" rIns="48240" tIns="24120" bIns="24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t Impact Assess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50880" y="4562640"/>
            <a:ext cx="18972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240" rIns="48240" tIns="24120" bIns="24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chnology Assess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e.g.Offices fo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ssess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83280" y="1820880"/>
            <a:ext cx="1796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240" rIns="48240" tIns="24120" bIns="24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cenarios of Fu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cie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e.g. Political think tank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260840" y="2847960"/>
            <a:ext cx="15235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240" rIns="48240" tIns="24120" bIns="24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lobal Tr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e.g. World Bank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orldwatch Institu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23920" y="4836960"/>
            <a:ext cx="953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240" rIns="48240" tIns="24120" bIns="24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trate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21083400">
            <a:off x="6914880" y="1374480"/>
            <a:ext cx="1735560" cy="231120"/>
          </a:xfrm>
          <a:prstGeom prst="rect">
            <a:avLst/>
          </a:prstGeom>
          <a:solidFill>
            <a:srgbClr val="ffc7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240" rIns="48240" tIns="24120" bIns="24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ong term persp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5397000">
            <a:off x="267480" y="2092320"/>
            <a:ext cx="3157560" cy="3693960"/>
          </a:xfrm>
          <a:custGeom>
            <a:avLst/>
            <a:gdLst>
              <a:gd name="textAreaLeft" fmla="*/ 537480 w 3157560"/>
              <a:gd name="textAreaRight" fmla="*/ 2620080 w 3157560"/>
              <a:gd name="textAreaTop" fmla="*/ 628920 h 3693960"/>
              <a:gd name="textAreaBottom" fmla="*/ 3065040 h 369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131" y="21600"/>
                </a:lnTo>
                <a:lnTo>
                  <a:pt x="3469" y="21600"/>
                </a:ln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fefec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360" y="3102120"/>
            <a:ext cx="12978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Conven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rket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2360" y="2752560"/>
            <a:ext cx="13388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trate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rket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95480" y="4608360"/>
            <a:ext cx="9716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46600" y="3390840"/>
            <a:ext cx="24699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ospective Economic Analy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34080" y="4075200"/>
            <a:ext cx="10036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mpet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21147600">
            <a:off x="1519200" y="2133720"/>
            <a:ext cx="2407320" cy="2397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hort/medium term persp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1880" y="1371600"/>
            <a:ext cx="35733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ocus on Markets and Business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economic, political, societal, ecologic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 non-technological driving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14960" y="5562720"/>
            <a:ext cx="188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ocus on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3809880"/>
            <a:ext cx="603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2313000">
            <a:off x="1994400" y="2986920"/>
            <a:ext cx="167544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9040" rIns="5904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81080" y="3733920"/>
            <a:ext cx="70106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9040" rIns="5904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2313000">
            <a:off x="1892160" y="1670400"/>
            <a:ext cx="3730680" cy="460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977" y="64"/>
                </a:moveTo>
                <a:arcTo wR="10800" hR="10800" stAng="-5024502" swAng="5021166"/>
                <a:lnTo>
                  <a:pt x="10800" y="10800"/>
                </a:lnTo>
                <a:close/>
              </a:path>
              <a:path fill="none" w="21600" h="21600">
                <a:moveTo>
                  <a:pt x="11977" y="64"/>
                </a:moveTo>
                <a:arcTo wR="10800" hR="10800" stAng="-5024502" swAng="5021166"/>
              </a:path>
            </a:pathLst>
          </a:custGeom>
          <a:noFill/>
          <a:ln w="1260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9040" rIns="5904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2313000">
            <a:off x="2785320" y="953280"/>
            <a:ext cx="5257440" cy="608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88043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880439"/>
              </a:path>
            </a:pathLst>
          </a:custGeom>
          <a:noFill/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9040" rIns="5904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3733920"/>
            <a:ext cx="1068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9040" rIns="5904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+ 1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96080" y="3733920"/>
            <a:ext cx="10670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9040" rIns="5904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+ 15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733920"/>
            <a:ext cx="9622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9040" rIns="5904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+ 5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0200" y="4151160"/>
            <a:ext cx="27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240" rIns="48240" tIns="24120" bIns="24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novation and Technology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733920"/>
            <a:ext cx="822960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9040" rIns="5904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404640"/>
            <a:ext cx="686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990000"/>
                </a:solidFill>
                <a:latin typeface="Arial"/>
                <a:ea typeface="Times New Roman"/>
              </a:rPr>
              <a:t>Landscape of F</a:t>
            </a:r>
            <a:r>
              <a:rPr b="0" lang="de-AT" sz="3000" spc="-1" strike="noStrike">
                <a:solidFill>
                  <a:srgbClr val="990000"/>
                </a:solidFill>
                <a:latin typeface="Arial"/>
                <a:ea typeface="Times New Roman"/>
              </a:rPr>
              <a:t>uture Stud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5867280"/>
            <a:ext cx="12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Swis721 Cn BT"/>
                <a:ea typeface="Times New Roman"/>
              </a:rPr>
              <a:t>Source: F. Ru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3652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209760"/>
                <a:gridCol w="503280"/>
                <a:gridCol w="966960"/>
                <a:gridCol w="503280"/>
                <a:gridCol w="1104840"/>
                <a:gridCol w="406440"/>
                <a:gridCol w="984240"/>
                <a:gridCol w="503280"/>
                <a:gridCol w="961920"/>
              </a:tblGrid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Methods &amp; Too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Diagnosi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Prescrip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 u="sng">
                          <a:solidFill>
                            <a:srgbClr val="ccccff"/>
                          </a:solidFill>
                          <a:uFillTx/>
                          <a:latin typeface="Microsoft Sans Serif"/>
                          <a:ea typeface="Times New Roman"/>
                          <a:hlinkClick r:id="rId1"/>
                        </a:rPr>
                        <a:t>Qualitative</a:t>
                      </a:r>
                      <a:r>
                        <a:rPr b="1" lang="en-GB" sz="12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 u="sng">
                          <a:solidFill>
                            <a:srgbClr val="ccccff"/>
                          </a:solidFill>
                          <a:uFillTx/>
                          <a:latin typeface="Microsoft Sans Serif"/>
                          <a:ea typeface="Times New Roman"/>
                          <a:hlinkClick r:id="rId2"/>
                        </a:rPr>
                        <a:t>Explorat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Progno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 u="sng">
                          <a:solidFill>
                            <a:srgbClr val="ccccff"/>
                          </a:solidFill>
                          <a:uFillTx/>
                          <a:latin typeface="Microsoft Sans Serif"/>
                          <a:ea typeface="Times New Roman"/>
                          <a:hlinkClick r:id="rId3"/>
                        </a:rPr>
                        <a:t>Quantita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 u="sng">
                          <a:solidFill>
                            <a:srgbClr val="ccccff"/>
                          </a:solidFill>
                          <a:uFillTx/>
                          <a:latin typeface="Microsoft Sans Serif"/>
                          <a:ea typeface="Times New Roman"/>
                          <a:hlinkClick r:id="rId4"/>
                        </a:rPr>
                        <a:t>Norma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 u="sng">
                          <a:solidFill>
                            <a:srgbClr val="ccccff"/>
                          </a:solidFill>
                          <a:uFillTx/>
                          <a:latin typeface="Microsoft Sans Serif"/>
                          <a:ea typeface="Times New Roman"/>
                          <a:hlinkClick r:id="rId5"/>
                        </a:rPr>
                        <a:t>Predi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 u="sng">
                          <a:solidFill>
                            <a:srgbClr val="ccccff"/>
                          </a:solidFill>
                          <a:uFillTx/>
                          <a:latin typeface="Microsoft Sans Serif"/>
                          <a:ea typeface="Times New Roman"/>
                          <a:hlinkClick r:id="rId6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3333cc"/>
                          </a:solidFill>
                          <a:latin typeface="Microsoft Sans Serif"/>
                          <a:ea typeface="Times New Roman"/>
                        </a:rPr>
                        <a:t>Environmental Scanning/Monito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Trend Extrapo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cc"/>
                          </a:solidFill>
                          <a:latin typeface="Microsoft Sans Serif"/>
                          <a:ea typeface="Times New Roman"/>
                        </a:rPr>
                        <a:t>Modelling and Simu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cc"/>
                          </a:solidFill>
                          <a:latin typeface="Microsoft Sans Serif"/>
                          <a:ea typeface="Times New Roman"/>
                        </a:rPr>
                        <a:t>Expert Pan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cc"/>
                          </a:solidFill>
                          <a:latin typeface="Microsoft Sans Serif"/>
                          <a:ea typeface="Times New Roman"/>
                        </a:rPr>
                        <a:t>Delphi Surv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cc"/>
                          </a:solidFill>
                          <a:latin typeface="Microsoft Sans Serif"/>
                          <a:ea typeface="Times New Roman"/>
                        </a:rPr>
                        <a:t>Roadma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cc"/>
                          </a:solidFill>
                          <a:latin typeface="Microsoft Sans Serif"/>
                          <a:ea typeface="Times New Roman"/>
                        </a:rPr>
                        <a:t>Critical/Key Technolog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cc"/>
                          </a:solidFill>
                          <a:latin typeface="Microsoft Sans Serif"/>
                          <a:ea typeface="Times New Roman"/>
                        </a:rPr>
                        <a:t>Scenario Buil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39640" y="112536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0000"/>
                </a:solidFill>
                <a:latin typeface="Arial"/>
                <a:ea typeface="Times New Roman"/>
              </a:rPr>
              <a:t>Exploratory approach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what would we expect to happen if this event happens or if that trend develop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84360" y="1903320"/>
            <a:ext cx="7991280" cy="1799280"/>
            <a:chOff x="684360" y="1903320"/>
            <a:chExt cx="7991280" cy="1799280"/>
          </a:xfrm>
        </p:grpSpPr>
        <p:grpSp>
          <p:nvGrpSpPr>
            <p:cNvPr id="139" name=""/>
            <p:cNvGrpSpPr/>
            <p:nvPr/>
          </p:nvGrpSpPr>
          <p:grpSpPr>
            <a:xfrm>
              <a:off x="684360" y="1989000"/>
              <a:ext cx="2520720" cy="1582560"/>
              <a:chOff x="684360" y="1989000"/>
              <a:chExt cx="2520720" cy="1582560"/>
            </a:xfrm>
          </p:grpSpPr>
          <p:sp>
            <p:nvSpPr>
              <p:cNvPr id="140" name=""/>
              <p:cNvSpPr/>
              <p:nvPr/>
            </p:nvSpPr>
            <p:spPr>
              <a:xfrm>
                <a:off x="684360" y="1989000"/>
                <a:ext cx="2520720" cy="158256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116000" y="2292120"/>
                <a:ext cx="18003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336699"/>
                    </a:solidFill>
                    <a:latin typeface="Verdana"/>
                    <a:ea typeface="Times New Roman"/>
                  </a:rPr>
                  <a:t>Knowledge about the pres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6300720" y="2103120"/>
              <a:ext cx="2374920" cy="1599480"/>
              <a:chOff x="6300720" y="2103120"/>
              <a:chExt cx="2374920" cy="1599480"/>
            </a:xfrm>
          </p:grpSpPr>
          <p:sp>
            <p:nvSpPr>
              <p:cNvPr id="143" name=""/>
              <p:cNvSpPr/>
              <p:nvPr/>
            </p:nvSpPr>
            <p:spPr>
              <a:xfrm>
                <a:off x="6300720" y="2103120"/>
                <a:ext cx="1800000" cy="862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516360" y="2319120"/>
                <a:ext cx="1800360" cy="862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875280" y="2535120"/>
                <a:ext cx="1800360" cy="11674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Alternative futur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3260520" y="1903320"/>
              <a:ext cx="2840040" cy="1629720"/>
              <a:chOff x="3260520" y="1903320"/>
              <a:chExt cx="2840040" cy="162972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3261240" y="1903320"/>
                <a:ext cx="2838960" cy="745560"/>
                <a:chOff x="3261240" y="1903320"/>
                <a:chExt cx="2838960" cy="745560"/>
              </a:xfrm>
            </p:grpSpPr>
            <p:sp>
              <p:nvSpPr>
                <p:cNvPr id="148" name=""/>
                <p:cNvSpPr/>
                <p:nvPr/>
              </p:nvSpPr>
              <p:spPr>
                <a:xfrm rot="21211800">
                  <a:off x="3276360" y="2059920"/>
                  <a:ext cx="2808000" cy="432000"/>
                </a:xfrm>
                <a:prstGeom prst="rightArrow">
                  <a:avLst>
                    <a:gd name="adj1" fmla="val 50000"/>
                    <a:gd name="adj2" fmla="val 162500"/>
                  </a:avLst>
                </a:prstGeom>
                <a:solidFill>
                  <a:srgbClr val="ff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rot="21211800">
                  <a:off x="3924000" y="2124720"/>
                  <a:ext cx="936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What i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3260520" y="2749680"/>
                <a:ext cx="2840040" cy="783360"/>
                <a:chOff x="3260520" y="2749680"/>
                <a:chExt cx="2840040" cy="783360"/>
              </a:xfrm>
            </p:grpSpPr>
            <p:sp>
              <p:nvSpPr>
                <p:cNvPr id="151" name=""/>
                <p:cNvSpPr/>
                <p:nvPr/>
              </p:nvSpPr>
              <p:spPr>
                <a:xfrm rot="436200">
                  <a:off x="3276360" y="2925360"/>
                  <a:ext cx="2808000" cy="431640"/>
                </a:xfrm>
                <a:prstGeom prst="rightArrow">
                  <a:avLst>
                    <a:gd name="adj1" fmla="val 50000"/>
                    <a:gd name="adj2" fmla="val 162636"/>
                  </a:avLst>
                </a:prstGeom>
                <a:solidFill>
                  <a:srgbClr val="ff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rot="436200">
                  <a:off x="3928320" y="2920680"/>
                  <a:ext cx="936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What i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284640" y="2493720"/>
                <a:ext cx="2808360" cy="432000"/>
                <a:chOff x="3284640" y="2493720"/>
                <a:chExt cx="2808360" cy="4320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284640" y="2493720"/>
                  <a:ext cx="2808360" cy="432000"/>
                </a:xfrm>
                <a:prstGeom prst="rightArrow">
                  <a:avLst>
                    <a:gd name="adj1" fmla="val 50000"/>
                    <a:gd name="adj2" fmla="val 162521"/>
                  </a:avLst>
                </a:prstGeom>
                <a:solidFill>
                  <a:srgbClr val="ff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932280" y="2525760"/>
                  <a:ext cx="936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What i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6" name=""/>
          <p:cNvSpPr/>
          <p:nvPr/>
        </p:nvSpPr>
        <p:spPr>
          <a:xfrm>
            <a:off x="539640" y="364500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0000"/>
                </a:solidFill>
                <a:latin typeface="Arial"/>
                <a:ea typeface="Times New Roman"/>
              </a:rPr>
              <a:t>Normative approach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what to do now to make the „best future“ happ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826920" y="4213080"/>
            <a:ext cx="7991640" cy="2075400"/>
            <a:chOff x="826920" y="4213080"/>
            <a:chExt cx="7991640" cy="2075400"/>
          </a:xfrm>
        </p:grpSpPr>
        <p:sp>
          <p:nvSpPr>
            <p:cNvPr id="158" name=""/>
            <p:cNvSpPr/>
            <p:nvPr/>
          </p:nvSpPr>
          <p:spPr>
            <a:xfrm>
              <a:off x="6300720" y="4213080"/>
              <a:ext cx="1727280" cy="10080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6920" y="4574880"/>
              <a:ext cx="2521080" cy="158292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258920" y="4878000"/>
              <a:ext cx="1800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6699"/>
                  </a:solidFill>
                  <a:latin typeface="Verdana"/>
                  <a:ea typeface="Times New Roman"/>
                </a:rPr>
                <a:t>Present ac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443640" y="4689360"/>
              <a:ext cx="1800360" cy="862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659640" y="4905000"/>
              <a:ext cx="1800000" cy="862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018200" y="5121000"/>
              <a:ext cx="1800360" cy="1167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ernative futu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3321000" y="4533480"/>
              <a:ext cx="2840760" cy="796680"/>
              <a:chOff x="3321000" y="4533480"/>
              <a:chExt cx="2840760" cy="796680"/>
            </a:xfrm>
          </p:grpSpPr>
          <p:sp>
            <p:nvSpPr>
              <p:cNvPr id="165" name=""/>
              <p:cNvSpPr/>
              <p:nvPr/>
            </p:nvSpPr>
            <p:spPr>
              <a:xfrm rot="10348200">
                <a:off x="3337200" y="4716000"/>
                <a:ext cx="2808360" cy="431640"/>
              </a:xfrm>
              <a:prstGeom prst="rightArrow">
                <a:avLst>
                  <a:gd name="adj1" fmla="val 50000"/>
                  <a:gd name="adj2" fmla="val 162656"/>
                </a:avLst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21094200">
                <a:off x="4271760" y="4710960"/>
                <a:ext cx="1584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What to d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6227640" y="4285800"/>
              <a:ext cx="223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6699"/>
                  </a:solidFill>
                  <a:latin typeface="Verdana"/>
                  <a:ea typeface="Times New Roman"/>
                </a:rPr>
                <a:t>The „best future“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643284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990000"/>
                </a:solidFill>
                <a:latin typeface="Arial"/>
              </a:rPr>
              <a:t>Two basic approaches to Foresight</a:t>
            </a: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070760" y="6324480"/>
            <a:ext cx="153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ource: Keenan/PR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9:42:42Z</dcterms:created>
  <dc:creator>weberm</dc:creator>
  <dc:description/>
  <dc:language>en-US</dc:language>
  <cp:lastModifiedBy>johnstonr</cp:lastModifiedBy>
  <dcterms:modified xsi:type="dcterms:W3CDTF">2008-09-16T09:40:33Z</dcterms:modified>
  <cp:revision>14</cp:revision>
  <dc:subject/>
  <dc:title>S&amp;T Foresight</dc:title>
</cp:coreProperties>
</file>